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E485-384B-40B9-89D2-E7AFBA0C9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16BB-CB4F-4D0E-83F7-35903FEC0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3E1-3666-493A-842A-74DF3929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239-FA60-4B36-8CB1-1671CFAE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F0E-742A-4761-80C2-E7EEFD7E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175-2D67-44AE-885B-6C4E8BB7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3B6F-6D55-4E1B-A231-B5AB53A3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9AC2-DE03-4292-B03D-191528B4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9510-8A5B-446D-BD35-C0FFFFC3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7B7F-C3C8-4173-BC3F-7109FBAA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5642-310A-4E65-9A3A-7308370B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8CA9-B223-4CF8-9511-E03B66BB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4DC2-D210-465F-9251-7F3C8F5A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AB7-C501-45CC-BE72-71F50048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A3F5-3C19-4E7A-AC0E-AB6F855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B060-E4CB-4903-9383-873E51CB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95BE-29B6-44D2-948F-67A37D9B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2A68-5E01-4A4D-BB01-7E4238F4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8727-6909-43B3-B2F7-C0551ED2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38F-D300-4D77-82C4-4C084CA7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7E8-8F70-444A-9861-F847A352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AE1-4411-4BFD-9ECD-B59EC00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3AC-9493-4935-8D8A-C0126160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64F-1C18-4935-AAC8-C9E7D531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378-B269-4F14-8762-03E17F9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E64-4E69-4274-AFF3-761E5BD9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ヒラギノ角ゴ Pro W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79E0-29FD-4D65-BF8C-8B36B74E18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ヒラギノ角ゴ Pro W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3EB0-EC11-4426-A3A2-BD95E3002C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ヒラギノ角ゴ Pro W6"/>
              </a:rPr>
              <a:t>AMICA</a:t>
            </a:r>
            <a:endParaRPr b="0" lang="en-US" sz="40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4343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N. Hirata (Univ. of Aizu)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代表的なデータの種類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非可逆圧縮撮像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v-band (550 nm)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フル解像度，ビニング，トリミングなし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スミア補正済み（降下時データを除く）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可逆圧縮撮像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カラー撮像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ビニング，トリミングあり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スミア補正済み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図 4" descr=""/>
          <p:cNvPicPr/>
          <p:nvPr/>
        </p:nvPicPr>
        <p:blipFill>
          <a:blip r:embed="rId1"/>
          <a:stretch/>
        </p:blipFill>
        <p:spPr>
          <a:xfrm>
            <a:off x="3497400" y="2013120"/>
            <a:ext cx="5327640" cy="3995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スミア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(smear)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99840"/>
            <a:ext cx="296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6"/>
              </a:rPr>
              <a:t>CCD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6"/>
              </a:rPr>
              <a:t>画像センサのデータ転送方式の特性により，輝度の高い画素の転送方向に「にじみ」が出ること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C-MOS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の転送方式だとスミアは出ない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ファイル名とヘッダの読み方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ファイル名はオンボード処理時刻，フィルタ情報を含む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FITS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ヘッダに撮像時刻など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TI_0    =           2420769254 / 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撮像時刻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(TI)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UTC_0   = ‘2005-09-30T12:23:22.445238’ / 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撮像時刻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(UTC)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BINNING =                    1 / 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ビニングの有無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OUT_MODE= ‘LOSSY             ’ / 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圧縮方式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基本的には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XX_0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の情報を参照すればよい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XX_1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はスミア補正用の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0sec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撮像情報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grpSp>
        <p:nvGrpSpPr>
          <p:cNvPr id="137" name="図形グループ 23"/>
          <p:cNvGrpSpPr/>
          <p:nvPr/>
        </p:nvGrpSpPr>
        <p:grpSpPr>
          <a:xfrm>
            <a:off x="1678320" y="1954080"/>
            <a:ext cx="5666040" cy="993240"/>
            <a:chOff x="1678320" y="1954080"/>
            <a:chExt cx="5666040" cy="993240"/>
          </a:xfrm>
        </p:grpSpPr>
        <p:sp>
          <p:nvSpPr>
            <p:cNvPr id="138" name="正方形/長方形 3"/>
            <p:cNvSpPr/>
            <p:nvPr/>
          </p:nvSpPr>
          <p:spPr>
            <a:xfrm>
              <a:off x="3100680" y="1954080"/>
              <a:ext cx="32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ヒラギノ角ゴ Pro W6"/>
                  <a:ea typeface="ヒラギノ角ゴ Pro W6"/>
                </a:rPr>
                <a:t>ST_</a:t>
              </a:r>
              <a:r>
                <a:rPr b="0" lang="ja-JP" sz="2400" spc="-1" strike="noStrike">
                  <a:solidFill>
                    <a:srgbClr val="0000e5"/>
                  </a:solidFill>
                  <a:latin typeface="ヒラギノ角ゴ Pro W6"/>
                  <a:ea typeface="ヒラギノ角ゴ Pro W6"/>
                </a:rPr>
                <a:t>2420773724</a:t>
              </a:r>
              <a:r>
                <a:rPr b="0" lang="ja-JP" sz="2400" spc="-1" strike="noStrike">
                  <a:solidFill>
                    <a:srgbClr val="000000"/>
                  </a:solidFill>
                  <a:latin typeface="ヒラギノ角ゴ Pro W6"/>
                  <a:ea typeface="ヒラギノ角ゴ Pro W6"/>
                </a:rPr>
                <a:t>_</a:t>
              </a:r>
              <a:r>
                <a:rPr b="0" lang="ja-JP" sz="2400" spc="-1" strike="noStrike">
                  <a:solidFill>
                    <a:srgbClr val="ff0000"/>
                  </a:solidFill>
                  <a:latin typeface="ヒラギノ角ゴ Pro W6"/>
                  <a:ea typeface="ヒラギノ角ゴ Pro W6"/>
                </a:rPr>
                <a:t>v</a:t>
              </a:r>
              <a:r>
                <a:rPr b="0" lang="ja-JP" sz="2400" spc="-1" strike="noStrike">
                  <a:solidFill>
                    <a:srgbClr val="000000"/>
                  </a:solidFill>
                  <a:latin typeface="ヒラギノ角ゴ Pro W6"/>
                  <a:ea typeface="ヒラギノ角ゴ Pro W6"/>
                </a:rPr>
                <a:t>.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正方形/長方形 4"/>
            <p:cNvSpPr/>
            <p:nvPr/>
          </p:nvSpPr>
          <p:spPr>
            <a:xfrm>
              <a:off x="1678320" y="2487600"/>
              <a:ext cx="2434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ヒラギノ角ゴ Pro W6"/>
                  <a:ea typeface="ヒラギノ角ゴ Pro W6"/>
                </a:rPr>
                <a:t>オンボード処理時刻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6"/>
                  <a:ea typeface="ヒラギノ角ゴ Pro W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6"/>
                  <a:ea typeface="ヒラギノ角ゴ Pro W6"/>
                </a:rPr>
                <a:t>(T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正方形/長方形 5"/>
            <p:cNvSpPr/>
            <p:nvPr/>
          </p:nvSpPr>
          <p:spPr>
            <a:xfrm>
              <a:off x="6432120" y="2487600"/>
              <a:ext cx="912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ヒラギノ角ゴ Pro W6"/>
                  <a:ea typeface="ヒラギノ角ゴ Pro W6"/>
                </a:rPr>
                <a:t>フィル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カギ線コネクタ 9"/>
            <p:cNvCxnSpPr>
              <a:stCxn id="140" idx="1"/>
            </p:cNvCxnSpPr>
            <p:nvPr/>
          </p:nvCxnSpPr>
          <p:spPr>
            <a:xfrm rot="10800000">
              <a:off x="5811840" y="2410560"/>
              <a:ext cx="368280" cy="307800"/>
            </a:xfrm>
            <a:prstGeom prst="bentConnector3">
              <a:avLst>
                <a:gd name="adj1" fmla="val 102544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42" name="Shape 22"/>
            <p:cNvCxnSpPr>
              <a:stCxn id="139" idx="3"/>
            </p:cNvCxnSpPr>
            <p:nvPr/>
          </p:nvCxnSpPr>
          <p:spPr>
            <a:xfrm flipV="1">
              <a:off x="4703400" y="2410200"/>
              <a:ext cx="266400" cy="30852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ds9</a:t>
            </a: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による</a:t>
            </a: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AMICA</a:t>
            </a: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画像の閲覧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http://hea-www.harvard.edu/RD/ds9/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ds9/FITS</a:t>
            </a: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の場合，画像座標の原点は左下に来る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一般には左上を原点とするソフト，データの方が多い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AMICA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の画像座標系も左上原点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Zoom&gt;Invert Y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とすることで左上原点になる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はやぶさは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Itokawa</a:t>
            </a: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の自転面（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〜</a:t>
            </a: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黄道面）上で観測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Zoom&gt;Rotate 270°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とすることで「北」が上になる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いわゆる「ラッコ」に見える向き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Itokawa</a:t>
            </a: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は逆行自転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Itokawa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の北極は下向き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Itokawa</a:t>
            </a:r>
            <a:r>
              <a:rPr b="0" lang="ja-JP" sz="2300" spc="-1" strike="noStrike">
                <a:solidFill>
                  <a:srgbClr val="000000"/>
                </a:solidFill>
                <a:latin typeface="ヒラギノ角ゴ Pro W6"/>
              </a:rPr>
              <a:t>の北を上にするには</a:t>
            </a: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rotate 90°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ds9 TIPS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frame</a:t>
            </a: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で複数データの表示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ブリンク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画像間の変化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複数データの比較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ヒラギノ角ゴ Pro W6"/>
              </a:rPr>
              <a:t>立体視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ヒラギノ角ゴ Pro W6"/>
              </a:rPr>
              <a:t>裸眼，補助器具，赤青合成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AMICA</a:t>
            </a:r>
            <a:br>
              <a:rPr sz="3800"/>
            </a:br>
            <a:r>
              <a:rPr b="0" lang="en-US" sz="3200" spc="-1" strike="noStrike">
                <a:solidFill>
                  <a:srgbClr val="000000"/>
                </a:solidFill>
                <a:latin typeface="ヒラギノ角ゴ Pro W6"/>
              </a:rPr>
              <a:t>Asteroid Multiband Imaging Camera</a:t>
            </a:r>
            <a:endParaRPr b="0" lang="en-US" sz="3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ヒラギノ角ゴ Pro W6"/>
              </a:rPr>
              <a:t>はやぶさ搭載カメラ</a:t>
            </a:r>
            <a:endParaRPr b="0" lang="en-US" sz="26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光学航法用カメラ（</a:t>
            </a:r>
            <a:r>
              <a:rPr b="0" lang="en-US" sz="2200" spc="-1" strike="noStrike">
                <a:solidFill>
                  <a:srgbClr val="000000"/>
                </a:solidFill>
                <a:latin typeface="ヒラギノ角ゴ Pro W6"/>
              </a:rPr>
              <a:t>ONC-T</a:t>
            </a: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）の別名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可視</a:t>
            </a:r>
            <a:r>
              <a:rPr b="0" lang="en-US" sz="2200" spc="-1" strike="noStrike">
                <a:solidFill>
                  <a:srgbClr val="000000"/>
                </a:solidFill>
                <a:latin typeface="ヒラギノ角ゴ Pro W6"/>
              </a:rPr>
              <a:t>-</a:t>
            </a: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近赤外域の分光画像（分光フィルタ）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偏光フィルタ（使用せず）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ヒラギノ角ゴ Pro W6"/>
              </a:rPr>
              <a:t>機器スペック</a:t>
            </a:r>
            <a:endParaRPr b="0" lang="en-US" sz="26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ヒラギノ角ゴ Pro W6"/>
              </a:rPr>
              <a:t>Nakamura et al. (2001)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ヒラギノ角ゴ Pro W6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ヒラギノ角ゴ Pro W6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ヒラギノ角ゴ Pro W6"/>
              </a:rPr>
              <a:t> scientific result</a:t>
            </a:r>
            <a:endParaRPr b="0" lang="en-US" sz="26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ヒラギノ角ゴ Pro W6"/>
              </a:rPr>
              <a:t>Saito et al. (2006)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06" name="図 4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8102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SPEC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FOV (field of view)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5.7 x 5.7 deg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焦点距離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仕様値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: 120 mm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実測値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: 120.8 mm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ヒラギノ角ゴ Pro W6"/>
              </a:rPr>
              <a:t>恒星観測による測定値，</a:t>
            </a:r>
            <a:r>
              <a:rPr b="0" lang="en-US" sz="1700" spc="-1" strike="noStrike">
                <a:solidFill>
                  <a:srgbClr val="000000"/>
                </a:solidFill>
                <a:latin typeface="ヒラギノ角ゴ Pro W6"/>
              </a:rPr>
              <a:t>amica31.ti</a:t>
            </a:r>
            <a:r>
              <a:rPr b="0" lang="ja-JP" sz="1700" spc="-1" strike="noStrike">
                <a:solidFill>
                  <a:srgbClr val="000000"/>
                </a:solidFill>
                <a:latin typeface="ヒラギノ角ゴ Pro W6"/>
              </a:rPr>
              <a:t>参照</a:t>
            </a:r>
            <a:endParaRPr b="0" lang="en-US" sz="17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検出器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1024 x 1024 pixel (</a:t>
            </a: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使用領域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: 1024 x 1000</a:t>
            </a: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pixel size: </a:t>
            </a: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 x 12 µm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IFOV (Instantaneous FOV)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~20 arcsec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分解能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1 m/pixel@10 km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50 mm/pixel@500 m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ビット分解能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6"/>
              </a:rPr>
              <a:t>: 12 bit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機上データ処理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スミア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(smear) </a:t>
            </a: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補正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JPEG</a:t>
            </a: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非可逆圧縮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ヒラギノ角ゴ Pro W6"/>
              </a:rPr>
              <a:t>8 bit</a:t>
            </a:r>
            <a:r>
              <a:rPr b="0" lang="ja-JP" sz="1700" spc="-1" strike="noStrike">
                <a:solidFill>
                  <a:srgbClr val="000000"/>
                </a:solidFill>
                <a:latin typeface="ヒラギノ角ゴ Pro W6"/>
              </a:rPr>
              <a:t>化</a:t>
            </a:r>
            <a:endParaRPr b="0" lang="en-US" sz="17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ヒラギノ角ゴ Pro W6"/>
              </a:rPr>
              <a:t>主に</a:t>
            </a:r>
            <a:r>
              <a:rPr b="0" lang="en-US" sz="1700" spc="-1" strike="noStrike">
                <a:solidFill>
                  <a:srgbClr val="000000"/>
                </a:solidFill>
                <a:latin typeface="ヒラギノ角ゴ Pro W6"/>
              </a:rPr>
              <a:t>v-band</a:t>
            </a:r>
            <a:r>
              <a:rPr b="0" lang="ja-JP" sz="1700" spc="-1" strike="noStrike">
                <a:solidFill>
                  <a:srgbClr val="000000"/>
                </a:solidFill>
                <a:latin typeface="ヒラギノ角ゴ Pro W6"/>
              </a:rPr>
              <a:t>データ</a:t>
            </a:r>
            <a:endParaRPr b="0" lang="en-US" sz="1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可逆圧縮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ヒラギノ角ゴ Pro W6"/>
              </a:rPr>
              <a:t>主にマルチバンドデータ</a:t>
            </a:r>
            <a:endParaRPr b="0" lang="en-US" sz="17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ヒラギノ角ゴ Pro W6"/>
              </a:rPr>
              <a:t>ビニングとセット</a:t>
            </a:r>
            <a:endParaRPr b="0" lang="en-US" sz="1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ビニング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(binning) </a:t>
            </a: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</a:rPr>
              <a:t>処理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ヒラギノ角ゴ Pro W6"/>
              </a:rPr>
              <a:t>2x2, 4x4…</a:t>
            </a:r>
            <a:endParaRPr b="0" lang="en-US" sz="17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AMICA</a:t>
            </a: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のフィルタ体系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6"/>
              </a:rPr>
              <a:t>ECAS (Eight Color Asteroid Survey) system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6"/>
              </a:rPr>
              <a:t>（小惑星の地上観測で使用）に近い波長を選択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6"/>
              </a:rPr>
              <a:t>300-1100 nm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6"/>
              </a:rPr>
              <a:t>に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6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6"/>
              </a:rPr>
              <a:t>波長</a:t>
            </a:r>
            <a:endParaRPr b="0" lang="en-US" sz="2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12" name="図 4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657600" cy="2388960"/>
          </a:xfrm>
          <a:prstGeom prst="rect">
            <a:avLst/>
          </a:prstGeom>
          <a:ln w="0">
            <a:noFill/>
          </a:ln>
        </p:spPr>
      </p:pic>
      <p:pic>
        <p:nvPicPr>
          <p:cNvPr id="113" name="図 5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733560" cy="2330280"/>
          </a:xfrm>
          <a:prstGeom prst="rect">
            <a:avLst/>
          </a:prstGeom>
          <a:ln w="0">
            <a:noFill/>
          </a:ln>
        </p:spPr>
      </p:pic>
      <p:sp>
        <p:nvSpPr>
          <p:cNvPr id="114" name="テキスト ボックス 6"/>
          <p:cNvSpPr/>
          <p:nvPr/>
        </p:nvSpPr>
        <p:spPr>
          <a:xfrm>
            <a:off x="5428440" y="632448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Nakamura et al.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AMICA false color composite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16" name="図 2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35004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正方形/長方形 3"/>
          <p:cNvSpPr/>
          <p:nvPr/>
        </p:nvSpPr>
        <p:spPr>
          <a:xfrm>
            <a:off x="1752480" y="5562720"/>
            <a:ext cx="56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6"/>
              </a:rPr>
              <a:t>http://www.isas.ac.jp/docs/ISASnews/No.302/isas-hayabus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AMICA</a:t>
            </a:r>
            <a:r>
              <a:rPr b="0" lang="ja-JP" sz="3800" spc="-1" strike="noStrike">
                <a:solidFill>
                  <a:srgbClr val="000000"/>
                </a:solidFill>
                <a:latin typeface="ヒラギノ角ゴ Pro W6"/>
              </a:rPr>
              <a:t>のターゲットと成果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ヒラギノ角ゴ Pro W6"/>
              </a:rPr>
              <a:t>地形に関するもの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全体形状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Demura et al. (2006)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Gaskell et al. (2006)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表面詳細地形，地質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Miyamoto et al. (2007)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ヒラギノ角ゴ Pro W6"/>
              </a:rPr>
              <a:t>Boulder</a:t>
            </a: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形状，サイズ分布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Nakamura et al. (2008)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Michikami et al. (2008, 2010)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ヒラギノ角ゴ Pro W6"/>
              </a:rPr>
              <a:t>クレーター</a:t>
            </a:r>
            <a:endParaRPr b="0" lang="en-US" sz="22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ヒラギノ角ゴ Pro W6"/>
              </a:rPr>
              <a:t>Hirata et al. (2009)</a:t>
            </a: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ヒラギノ角ゴ Pro W6"/>
              </a:rPr>
              <a:t>分光，測光に関するもの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多色分光，宇宙風化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Ishiguro et al. (2007)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</a:rPr>
              <a:t>衛星探索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6"/>
              </a:rPr>
              <a:t>Fuse et al. (2008)</a:t>
            </a:r>
            <a:endParaRPr b="0" lang="en-US" sz="20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図 4" descr=""/>
          <p:cNvPicPr/>
          <p:nvPr/>
        </p:nvPicPr>
        <p:blipFill>
          <a:blip r:embed="rId1"/>
          <a:srcRect l="0" t="0" r="0" b="59664"/>
          <a:stretch/>
        </p:blipFill>
        <p:spPr>
          <a:xfrm>
            <a:off x="0" y="2616120"/>
            <a:ext cx="9144000" cy="4241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Hayabusa project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Science data archive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http://darts.isas.jaxa.jp/planet/project/hayabusa/index.html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AMICA images at HAYABUSA Project Science Data Archive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FITS</a:t>
            </a: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形式の元データと</a:t>
            </a:r>
            <a:r>
              <a:rPr b="0" lang="en-US" sz="3000" spc="-1" strike="noStrike">
                <a:solidFill>
                  <a:srgbClr val="000000"/>
                </a:solidFill>
                <a:latin typeface="ヒラギノ角ゴ Pro W6"/>
              </a:rPr>
              <a:t>jpeg</a:t>
            </a: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形式のサムネイル画像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ヒラギノ角ゴ Pro W6"/>
              </a:rPr>
              <a:t>撮像時期によって分類</a:t>
            </a:r>
            <a:endParaRPr b="0" lang="en-US" sz="30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クルージングフェイズ（恒星撮像など）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地球スイングバイ（月，地球）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ゲートポジション（距離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~20km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ホームポジション（距離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~7km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lnSpc>
                <a:spcPct val="7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全周撮像，衝条件，極方向移動，位相角変更</a:t>
            </a:r>
            <a:endParaRPr b="0" lang="en-US" sz="21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lnSpc>
                <a:spcPct val="7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カラー撮像</a:t>
            </a:r>
            <a:endParaRPr b="0" lang="en-US" sz="21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lnSpc>
                <a:spcPct val="7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後期の一部はクローズアップもあり</a:t>
            </a:r>
            <a:endParaRPr b="0" lang="en-US" sz="21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降下，タッチダウン時（距離</a:t>
            </a: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&lt;4km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  <a:p>
            <a:pPr lvl="2" marL="1143000" indent="-228600">
              <a:lnSpc>
                <a:spcPct val="7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ヒラギノ角ゴ Pro W6"/>
              </a:rPr>
              <a:t>クローズアップ</a:t>
            </a:r>
            <a:endParaRPr b="0" lang="en-US" sz="21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ヒラギノ角ゴ Pro W6"/>
              </a:rPr>
              <a:t>較正</a:t>
            </a:r>
            <a:r>
              <a:rPr b="0" lang="ja-JP" sz="2500" spc="-1" strike="noStrike">
                <a:solidFill>
                  <a:srgbClr val="000000"/>
                </a:solidFill>
                <a:latin typeface="ヒラギノ角ゴ Pro W6"/>
              </a:rPr>
              <a:t>観測</a:t>
            </a:r>
            <a:endParaRPr b="0" lang="en-US" sz="25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FITS image format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ヒラギノ角ゴ Pro W6"/>
              </a:rPr>
              <a:t>http://fits.gsfc.nasa.gov/</a:t>
            </a:r>
            <a:endParaRPr b="0" lang="en-US" sz="3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Flexible Image Transport System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The standard data format used in astronomy and small body explorations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Used for the transport, analysis, and archival storage of scientific data sets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Multi-dimensional arrays: 1D spectra, 2D images, 3D+ data cubes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Tables containing rows and columns of information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 W6"/>
              </a:rPr>
              <a:t>Fix-sized text header providing metadata</a:t>
            </a:r>
            <a:endParaRPr b="0" lang="en-US" sz="27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Unit size: 2880 byte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ヒラギノ角ゴ Pro W6"/>
              </a:rPr>
              <a:t>key = value” style</a:t>
            </a:r>
            <a:endParaRPr b="0" lang="en-US" sz="23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6:18:46Z</dcterms:created>
  <dc:creator>Hirata Naru</dc:creator>
  <dc:description/>
  <dc:language>en-US</dc:language>
  <cp:lastModifiedBy>平田 成</cp:lastModifiedBy>
  <cp:lastPrinted>2009-03-10T22:24:26Z</cp:lastPrinted>
  <dcterms:modified xsi:type="dcterms:W3CDTF">2012-08-28T12:40:39Z</dcterms:modified>
  <cp:revision>373</cp:revision>
  <dc:subject/>
  <dc:title>リモートセンシングデータの解析</dc:title>
</cp:coreProperties>
</file>