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83E3-431A-4E19-AD90-D1FEBBF3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BF9-DD29-4472-BF5E-FDF50D8F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517-8F8D-40D3-BC71-4E0A4B4C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405-8C4B-40B4-B16F-A8FEDD2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01A-C970-43B1-9835-2A03A4B8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09B-AE1F-49CD-9B8A-492FB7FC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A45-452F-44D2-8535-51D5E7B6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CBF-C6F9-4D7C-9971-003F941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FD63-6BE4-4BD3-8B38-0BCE1F3F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F2CB-80A5-4FEE-B23A-8380CEA9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230-C6D5-45E2-8D03-D936F85B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6BC-EA0C-4CA9-A9D3-A738E89A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35B6-345B-4339-9E0D-8E2AA8E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9DC-AE7F-485F-A50E-EA636D3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B185-79AD-482A-8D75-9FF7F50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6AC-24FC-4840-9D08-2E614C0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7526-F604-4880-8187-CEFC6131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0BEA-A458-4979-B9F3-66F1FED9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532-71EA-4192-8AEC-B281121B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915-FA3F-41EC-8BBE-531007FB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1B7-24F0-4607-9C84-826D3F9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05C-6580-47FA-B0D3-C24A176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FF3-2090-4217-988B-416E04F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A76-080A-4E13-90A6-0807B15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863-C0D3-470C-B7C1-C414732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EB4-0712-48DA-B12E-605E87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F3F-7CF4-40CB-99F9-EF8B1C674F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CC0-1F14-41CE-A5B1-BEFF0944CB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ヒラギノ角ゴ Pro W6"/>
              </a:rPr>
              <a:t>SPICE toolk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ヒラギノ角ゴ Pro W6"/>
              </a:rPr>
              <a:t>and plate_render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ヒラギノ角ゴ Pro W6"/>
              </a:rPr>
              <a:t>with DSKsubsystem</a:t>
            </a:r>
            <a:endParaRPr b="0" lang="en-US" sz="4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N. Hirata (Univ. of Aizu)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応用例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ライトカーブ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星の明るさの時間変化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小惑星の場合は形状と自転軸の向き，周期に依存する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ライトカーブから形状を推定することも可能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模擬画像の輝度積分値で作成可能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56" name="図 5" descr="STTlightcurve_v2J.pdf"/>
          <p:cNvPicPr/>
          <p:nvPr/>
        </p:nvPicPr>
        <p:blipFill>
          <a:blip r:embed="rId1"/>
          <a:srcRect l="6545" t="0" r="13625" b="0"/>
          <a:stretch/>
        </p:blipFill>
        <p:spPr>
          <a:xfrm>
            <a:off x="4495680" y="160020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正方形/長方形 6"/>
          <p:cNvSpPr/>
          <p:nvPr/>
        </p:nvSpPr>
        <p:spPr>
          <a:xfrm>
            <a:off x="5638680" y="548640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6"/>
              </a:rPr>
              <a:t>http://www.isas.jaxa.jp/j/snews/2005/0815_hayabus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DSK subsystem/toolki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PICE toolkit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の追加ライブラリ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ポリゴンモデル，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DTM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（デジタル地形モデル）の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handling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Alpha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版がリリース中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ポリゴンモデルの取り扱いについてはほぼ実装済み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RTRAN, C, IDL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版が使用可能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DSK: digital shape kernel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DSK subsystem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で用いる形状データのカーネル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球状天体の地形モデル（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DTM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不規則形状天体のポリゴン形状モデル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三軸不等楕円体は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pck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で取り扱え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バイナリカーネル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拡張子は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.bds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DSK subsystem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付属の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mkdsk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で作成でき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他のカーネルとは異なるフォーマットのため，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furnsh_c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では読み込めない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な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PI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形状モデル上での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ub-observer poin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視線ベクトルと形状モデルの交点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形状モデルによる掩蔽，前面通過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形状モデルの縁形状，日夜境界線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任意の地点の日照条件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FITSIO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形式の画像データを読み書きするためのライブラリ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C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言語と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FORTRAN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に対応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配布元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http://heasarc.gsfc.nasa.gov/fitsio/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コンパイル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DSK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の準備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http://naif.jpl.nasa.gov/pub/naif/misc/alpha_dsk/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イトカワなどの形状モデルも含まれてい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CFITSIO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の準備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配布元よりソースコードを入手してコンパイル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本体のコンパイル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plate_renderer.h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にはやぶさ視点モード，自由視点モードの切り替えフラグがあ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書き換えて再コンパイルすることでモード切り替え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使い方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$ ./plate_rendere DSK_kernel kernels ...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第一引数が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DSK kernel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，以降必要な一般のカーネルを引数に列挙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コンパイル時に切り替え可能な機能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書き出しデータ種の選択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緯度経度グリッド描画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ライトカーブ用の輝度積分値出力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仕組み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カーネルのロード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動作モードの選択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再現モードの場合，カーネルから情報を読み出し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自由視点モードの場合は入力値から幾何条件算出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各画素について以下を行う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当該画素の視線ベクトルと形状モデルの交差判定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交差した場合，交差位置での日照条件を求め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影になっているかどうかも判定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Hapke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光散乱モデルで輝度値を求め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情報を書き出す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外部関数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int ONC_getlos_c( )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カメラ特定画素の視線ベクトルを得る関数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double hapke( )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Hapke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光散乱モデルでの輝度を得る関数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void get_plbore ( )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視線ベクトルと形状モデルの交差判定を行い，フットプリント位置と日照条件を得る関数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int get_cam_info ( )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ik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からカメラの画面サイズ，画素サイズなどを読み出す関数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要関数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(CSPICE)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prompt_c ( "Instrument ID: ", STRLEN, instr );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ユーザ入力用関数（</a:t>
            </a:r>
            <a:r>
              <a:rPr b="0" lang="en-US" sz="2100" spc="-1" strike="noStrike">
                <a:solidFill>
                  <a:srgbClr val="000000"/>
                </a:solidFill>
                <a:latin typeface="ヒラギノ角ゴ Pro W6"/>
              </a:rPr>
              <a:t>printf + scanf</a:t>
            </a: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vminus_c (SC_pos_bd,SC_pos_bd);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ベクトルに</a:t>
            </a:r>
            <a:r>
              <a:rPr b="0" lang="en-US" sz="2100" spc="-1" strike="noStrike">
                <a:solidFill>
                  <a:srgbClr val="000000"/>
                </a:solidFill>
                <a:latin typeface="ヒラギノ角ゴ Pro W6"/>
              </a:rPr>
              <a:t>-1</a:t>
            </a: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を乗じる関数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pxform_c (frame,"ITOKAWA_FIXED", et, rotate);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座標系間の回転変換を行う回転行列を得る関数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eul2m_c (rotate_z,  rotate_y,  rotate_x, 3, 2, 1,  rotate );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オイラー角から回転行列を得る関数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mxv_c (rotate, bsight, bsight);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行列とベクトルの乗算（回転変換）を行う関数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SPICE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の活用例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endParaRPr b="0" lang="en-US" sz="36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37560" cy="3108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992160" y="5257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はやぶさ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撮影し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実際の画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688800" y="5257800"/>
            <a:ext cx="18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SPICE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を使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作成し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模擬画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21880" y="510552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時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探査機位置・姿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天体，光源位置，形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機器情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右矢印 8"/>
          <p:cNvSpPr/>
          <p:nvPr/>
        </p:nvSpPr>
        <p:spPr>
          <a:xfrm>
            <a:off x="2590920" y="5638680"/>
            <a:ext cx="304560" cy="457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acaff"/>
              </a:gs>
              <a:gs pos="100000">
                <a:srgbClr val="c4c4ff"/>
              </a:gs>
            </a:gsLst>
            <a:lin ang="54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右矢印 9"/>
          <p:cNvSpPr/>
          <p:nvPr/>
        </p:nvSpPr>
        <p:spPr>
          <a:xfrm>
            <a:off x="6095880" y="5638680"/>
            <a:ext cx="304920" cy="457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acaff"/>
              </a:gs>
              <a:gs pos="100000">
                <a:srgbClr val="c4c4ff"/>
              </a:gs>
            </a:gsLst>
            <a:lin ang="54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要関数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(dsk subsystem)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dasopr_c ( argv[1], &amp;handle );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dlabfs_c ( handle, &amp;dladsc, &amp;found );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DSK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読み込み関数（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urnsh_c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は使えない）と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DSK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へのアクセスの準備関数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ファイルハンドル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handle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を使う必要がある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dskx02_c (</a:t>
            </a:r>
            <a:r>
              <a:rPr b="0" lang="en-US" sz="2800" spc="-1" strike="noStrike">
                <a:solidFill>
                  <a:srgbClr val="7f7f7f"/>
                </a:solidFill>
                <a:latin typeface="ヒラギノ角ゴ Pro W6"/>
              </a:rPr>
              <a:t>handle, &amp;dladsc, </a:t>
            </a:r>
            <a:r>
              <a:rPr b="0" lang="en-US" sz="2800" spc="-1" strike="noStrike">
                <a:solidFill>
                  <a:srgbClr val="ff0000"/>
                </a:solidFill>
                <a:latin typeface="ヒラギノ角ゴ Pro W6"/>
              </a:rPr>
              <a:t>SC_pos_bd,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ヒラギノ角ゴ Pro W6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ヒラギノ角ゴ Pro W6"/>
              </a:rPr>
              <a:t>bsight_bd, </a:t>
            </a:r>
            <a:r>
              <a:rPr b="0" lang="en-US" sz="2800" spc="-1" strike="noStrike">
                <a:solidFill>
                  <a:srgbClr val="0000ff"/>
                </a:solidFill>
                <a:latin typeface="ヒラギノ角ゴ Pro W6"/>
              </a:rPr>
              <a:t>&amp;PLDEX, surface_point,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ヒラギノ角ゴ Pro W6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ヒラギノ角ゴ Pro W6"/>
              </a:rPr>
              <a:t>&amp;found1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視線ベクトルと形状モデルの交点を求める関数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dskn02_c (</a:t>
            </a:r>
            <a:r>
              <a:rPr b="0" lang="en-US" sz="2800" spc="-1" strike="noStrike">
                <a:solidFill>
                  <a:srgbClr val="808080"/>
                </a:solidFill>
                <a:latin typeface="ヒラギノ角ゴ Pro W6"/>
              </a:rPr>
              <a:t>handle, &amp;dladsc, </a:t>
            </a:r>
            <a:r>
              <a:rPr b="0" lang="en-US" sz="2800" spc="-1" strike="noStrike">
                <a:solidFill>
                  <a:srgbClr val="ff0000"/>
                </a:solidFill>
                <a:latin typeface="ヒラギノ角ゴ Pro W6"/>
              </a:rPr>
              <a:t>PLDEX,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ヒラギノ角ゴ Pro W6"/>
              </a:rPr>
              <a:t>plnorm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ポリゴンの法線を求める関数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要関数（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SPICE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続き）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erract_c ("SET",STRLEN,"RETURN");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エラー対策の関数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DSK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周りで例外処理が発生する可能性があ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通常，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toolkit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内で例外処理が発生した場合はメッセージを表示して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exit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す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本関数でフラグ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RETURN”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を設定すると例外処理発生後も動作を継続す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failed_c(); / reset_c();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現在何らかの例外処理が発生しているかどうかを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faild_c()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で検知，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reset_c()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で例外処理フラグをリセット（エラーがなくなるわけではない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要関数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(CFITSIO)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its_create_img(phase_fptr, DOUBLE_IMG, dim, naxis, &amp;status);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新規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データ作成（まだファイルには書き込まれない）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its_create_file(&amp;phase_fptr, phase_fname, &amp;status);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新規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ファイル作成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(fopen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相当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its_write_2d_dbl(phase_fptr, 0, naxis[0], naxis[0], naxis[1], phase_img, &amp;status);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データのファイル書き出し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its_close_file(phase_fptr, &amp;status);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ファイルのクローズ（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fclose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相当）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主要関数（その他）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hapke(double i, double e, double g);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入力された日照条件下での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Hapke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の光散乱則による物体の輝度を求める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Hapke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則は天体表面の光散乱モデルとして開発されている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パラメータは月，小惑星など向けに研究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画像解析に必要な情報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画面内各地点の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日照条件（入射角，出射角，位相角）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輝度は日照条件によって異な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物質の明るさ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/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暗さ（反射率）を知る必要があ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影の長さから対象物のサイズを調べることもできる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地理座標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緯度経度はイトカワ上では不都合があるが，便利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見かけの幾何条件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対象物の実際のサイズを知るために必要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対象物までの距離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見かけサイズと実際のサイズ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右の物体は同じサイズだが，見る向きの違いによって見かけのサイズは異なる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見ている向きの情報があれば，見かけのサイズから実際のサイズを復元できる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15" name="図 10" descr="名称未設定.004.jpg"/>
          <p:cNvPicPr/>
          <p:nvPr/>
        </p:nvPicPr>
        <p:blipFill>
          <a:blip r:embed="rId1"/>
          <a:srcRect l="12557" t="28809" r="27361" b="47879"/>
          <a:stretch/>
        </p:blipFill>
        <p:spPr>
          <a:xfrm>
            <a:off x="4964040" y="2971800"/>
            <a:ext cx="3119400" cy="993600"/>
          </a:xfrm>
          <a:prstGeom prst="rect">
            <a:avLst/>
          </a:prstGeom>
          <a:ln w="0">
            <a:noFill/>
          </a:ln>
        </p:spPr>
      </p:pic>
      <p:pic>
        <p:nvPicPr>
          <p:cNvPr id="116" name="図 9" descr="名称未設定.002.jpg"/>
          <p:cNvPicPr/>
          <p:nvPr/>
        </p:nvPicPr>
        <p:blipFill>
          <a:blip r:embed="rId2"/>
          <a:srcRect l="19440" t="23322" r="26446" b="30728"/>
          <a:stretch/>
        </p:blipFill>
        <p:spPr>
          <a:xfrm>
            <a:off x="5243400" y="4316400"/>
            <a:ext cx="2810160" cy="1955880"/>
          </a:xfrm>
          <a:prstGeom prst="rect">
            <a:avLst/>
          </a:prstGeom>
          <a:ln w="0">
            <a:noFill/>
          </a:ln>
        </p:spPr>
      </p:pic>
      <p:pic>
        <p:nvPicPr>
          <p:cNvPr id="117" name="図 7" descr="名称未設定.003.jpg"/>
          <p:cNvPicPr/>
          <p:nvPr/>
        </p:nvPicPr>
        <p:blipFill>
          <a:blip r:embed="rId3"/>
          <a:srcRect l="11424" t="31068" r="20264" b="48907"/>
          <a:stretch/>
        </p:blipFill>
        <p:spPr>
          <a:xfrm>
            <a:off x="4878360" y="1901880"/>
            <a:ext cx="3546360" cy="852480"/>
          </a:xfrm>
          <a:prstGeom prst="rect">
            <a:avLst/>
          </a:prstGeom>
          <a:ln w="0">
            <a:noFill/>
          </a:ln>
        </p:spPr>
      </p:pic>
      <p:sp>
        <p:nvSpPr>
          <p:cNvPr id="118" name="直線コネクタ 16"/>
          <p:cNvSpPr/>
          <p:nvPr/>
        </p:nvSpPr>
        <p:spPr>
          <a:xfrm flipV="1">
            <a:off x="4978440" y="2355480"/>
            <a:ext cx="3340080" cy="19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線コネクタ 22"/>
          <p:cNvSpPr/>
          <p:nvPr/>
        </p:nvSpPr>
        <p:spPr>
          <a:xfrm flipV="1">
            <a:off x="5199120" y="3441600"/>
            <a:ext cx="2263680" cy="921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線コネクタ 25"/>
          <p:cNvSpPr/>
          <p:nvPr/>
        </p:nvSpPr>
        <p:spPr>
          <a:xfrm>
            <a:off x="5365800" y="4830840"/>
            <a:ext cx="2152440" cy="1131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定義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2" name="台形 2"/>
          <p:cNvSpPr/>
          <p:nvPr/>
        </p:nvSpPr>
        <p:spPr>
          <a:xfrm rot="14346000">
            <a:off x="2630160" y="3523680"/>
            <a:ext cx="3629160" cy="1438200"/>
          </a:xfrm>
          <a:custGeom>
            <a:avLst/>
            <a:gdLst/>
            <a:ahLst/>
            <a:rect l="l" t="t" r="r" b="b"/>
            <a:pathLst>
              <a:path w="3629025" h="1438275">
                <a:moveTo>
                  <a:pt x="0" y="1438275"/>
                </a:moveTo>
                <a:lnTo>
                  <a:pt x="813100" y="0"/>
                </a:lnTo>
                <a:lnTo>
                  <a:pt x="2815925" y="0"/>
                </a:lnTo>
                <a:lnTo>
                  <a:pt x="3629025" y="1438275"/>
                </a:lnTo>
                <a:lnTo>
                  <a:pt x="0" y="143827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線コネクタ 4"/>
          <p:cNvSpPr/>
          <p:nvPr/>
        </p:nvSpPr>
        <p:spPr>
          <a:xfrm flipH="1">
            <a:off x="3827160" y="3875040"/>
            <a:ext cx="1235160" cy="738360"/>
          </a:xfrm>
          <a:prstGeom prst="line">
            <a:avLst/>
          </a:prstGeom>
          <a:ln w="3492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416760" y="4573440"/>
            <a:ext cx="15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傾斜方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(azimu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線コネクタ 46"/>
          <p:cNvSpPr/>
          <p:nvPr/>
        </p:nvSpPr>
        <p:spPr>
          <a:xfrm>
            <a:off x="2163600" y="4249800"/>
            <a:ext cx="4911840" cy="1440"/>
          </a:xfrm>
          <a:prstGeom prst="line">
            <a:avLst/>
          </a:prstGeom>
          <a:ln w="4140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7"/>
          <p:cNvSpPr/>
          <p:nvPr/>
        </p:nvSpPr>
        <p:spPr>
          <a:xfrm>
            <a:off x="844560" y="4013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基準方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円弧 51"/>
          <p:cNvSpPr/>
          <p:nvPr/>
        </p:nvSpPr>
        <p:spPr>
          <a:xfrm>
            <a:off x="4314960" y="3822840"/>
            <a:ext cx="803160" cy="868320"/>
          </a:xfrm>
          <a:custGeom>
            <a:avLst/>
            <a:gdLst/>
            <a:ahLst/>
            <a:rect l="l" t="t" r="r" b="b"/>
            <a:pathLst>
              <a:path stroke="0" w="803275" h="868363">
                <a:moveTo>
                  <a:pt x="665623" y="106959"/>
                </a:moveTo>
                <a:cubicBezTo>
                  <a:pt x="753082" y="189414"/>
                  <a:pt x="803276" y="308732"/>
                  <a:pt x="803276" y="434182"/>
                </a:cubicBezTo>
                <a:lnTo>
                  <a:pt x="401638" y="434182"/>
                </a:lnTo>
                <a:lnTo>
                  <a:pt x="665623" y="106959"/>
                </a:lnTo>
                <a:close/>
              </a:path>
              <a:path fill="none" w="803275" h="868363">
                <a:moveTo>
                  <a:pt x="665623" y="106959"/>
                </a:moveTo>
                <a:cubicBezTo>
                  <a:pt x="753082" y="189414"/>
                  <a:pt x="803276" y="308732"/>
                  <a:pt x="803276" y="43418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5540040" y="34545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傾斜角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=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（出射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3"/>
          <p:cNvSpPr/>
          <p:nvPr/>
        </p:nvSpPr>
        <p:spPr>
          <a:xfrm>
            <a:off x="3813840" y="1671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観測者視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平田作の模擬画像作成ツール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幾何条件も計算している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光散乱モデルに必要な情報として，日照条件を算出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撮像条件や日照条件を与えて実際には撮影していない（できない）画像を作成することも可能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出力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33" name="図 2" descr="ピクチャ 57.png"/>
          <p:cNvPicPr/>
          <p:nvPr/>
        </p:nvPicPr>
        <p:blipFill>
          <a:blip r:embed="rId1"/>
          <a:srcRect l="4207" t="24444" r="4254" b="12224"/>
          <a:stretch/>
        </p:blipFill>
        <p:spPr>
          <a:xfrm>
            <a:off x="609480" y="1262160"/>
            <a:ext cx="7925040" cy="519120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"/>
          <p:cNvSpPr/>
          <p:nvPr/>
        </p:nvSpPr>
        <p:spPr>
          <a:xfrm>
            <a:off x="1042560" y="255744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i: incidence 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4"/>
          <p:cNvSpPr/>
          <p:nvPr/>
        </p:nvSpPr>
        <p:spPr>
          <a:xfrm>
            <a:off x="3623040" y="255744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e: emission 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5"/>
          <p:cNvSpPr/>
          <p:nvPr/>
        </p:nvSpPr>
        <p:spPr>
          <a:xfrm>
            <a:off x="6504480" y="255744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g: phase 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6"/>
          <p:cNvSpPr/>
          <p:nvPr/>
        </p:nvSpPr>
        <p:spPr>
          <a:xfrm>
            <a:off x="1037520" y="434340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ヒラギノ角ゴ Pro W6"/>
              </a:rPr>
              <a:t>hapke: re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7"/>
          <p:cNvSpPr/>
          <p:nvPr/>
        </p:nvSpPr>
        <p:spPr>
          <a:xfrm>
            <a:off x="3965760" y="430992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lat: lat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8"/>
          <p:cNvSpPr/>
          <p:nvPr/>
        </p:nvSpPr>
        <p:spPr>
          <a:xfrm>
            <a:off x="6562440" y="430992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lon: long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9"/>
          <p:cNvSpPr/>
          <p:nvPr/>
        </p:nvSpPr>
        <p:spPr>
          <a:xfrm>
            <a:off x="1292040" y="606276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ヒラギノ角ゴ Pro W6"/>
              </a:rPr>
              <a:t>real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10"/>
          <p:cNvSpPr/>
          <p:nvPr/>
        </p:nvSpPr>
        <p:spPr>
          <a:xfrm>
            <a:off x="3788640" y="606276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s: strike azim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1"/>
          <p:cNvSpPr/>
          <p:nvPr/>
        </p:nvSpPr>
        <p:spPr>
          <a:xfrm>
            <a:off x="6307200" y="6062760"/>
            <a:ext cx="18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</a:rPr>
              <a:t>range: range [k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2"/>
          <p:cNvSpPr/>
          <p:nvPr/>
        </p:nvSpPr>
        <p:spPr>
          <a:xfrm>
            <a:off x="7761240" y="64771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a: </a:t>
            </a:r>
            <a:r>
              <a:rPr b="0" lang="ja-JP" sz="16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応用例：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Itokawa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四面図</a:t>
            </a:r>
            <a:br>
              <a:rPr sz="3800"/>
            </a:b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自由視点モード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45" name="図 1" descr=""/>
          <p:cNvPicPr/>
          <p:nvPr/>
        </p:nvPicPr>
        <p:blipFill>
          <a:blip r:embed="rId1"/>
          <a:stretch/>
        </p:blipFill>
        <p:spPr>
          <a:xfrm>
            <a:off x="227160" y="2038320"/>
            <a:ext cx="4343400" cy="2241720"/>
          </a:xfrm>
          <a:prstGeom prst="rect">
            <a:avLst/>
          </a:prstGeom>
          <a:ln w="0">
            <a:noFill/>
          </a:ln>
        </p:spPr>
      </p:pic>
      <p:pic>
        <p:nvPicPr>
          <p:cNvPr id="146" name="図 2" descr=""/>
          <p:cNvPicPr/>
          <p:nvPr/>
        </p:nvPicPr>
        <p:blipFill>
          <a:blip r:embed="rId2"/>
          <a:stretch/>
        </p:blipFill>
        <p:spPr>
          <a:xfrm>
            <a:off x="4570560" y="2038320"/>
            <a:ext cx="4343400" cy="2241720"/>
          </a:xfrm>
          <a:prstGeom prst="rect">
            <a:avLst/>
          </a:prstGeom>
          <a:ln w="0">
            <a:noFill/>
          </a:ln>
        </p:spPr>
      </p:pic>
      <p:pic>
        <p:nvPicPr>
          <p:cNvPr id="147" name="図 3" descr=""/>
          <p:cNvPicPr/>
          <p:nvPr/>
        </p:nvPicPr>
        <p:blipFill>
          <a:blip r:embed="rId3"/>
          <a:stretch/>
        </p:blipFill>
        <p:spPr>
          <a:xfrm>
            <a:off x="227160" y="4280040"/>
            <a:ext cx="4343400" cy="2354040"/>
          </a:xfrm>
          <a:prstGeom prst="rect">
            <a:avLst/>
          </a:prstGeom>
          <a:ln w="0">
            <a:noFill/>
          </a:ln>
        </p:spPr>
      </p:pic>
      <p:pic>
        <p:nvPicPr>
          <p:cNvPr id="148" name="図 5" descr=""/>
          <p:cNvPicPr/>
          <p:nvPr/>
        </p:nvPicPr>
        <p:blipFill>
          <a:blip r:embed="rId4"/>
          <a:stretch/>
        </p:blipFill>
        <p:spPr>
          <a:xfrm>
            <a:off x="4570560" y="4280040"/>
            <a:ext cx="43434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応用例：はやぶさ視点ムービー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RW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故障前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51" name="2005-10-01_small.mov" descr="/Users/naru/Temp/TanIku/Presentation/2005-10-01_small.mov"/>
          <p:cNvPicPr/>
          <p:nvPr/>
        </p:nvPicPr>
        <p:blipFill>
          <a:blip r:embed="rId1"/>
          <a:stretch/>
        </p:blipFill>
        <p:spPr>
          <a:xfrm>
            <a:off x="501480" y="217476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RW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故障後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53" name="2005-10-14_small.mov" descr="/Users/naru/Temp/TanIku/Presentation/2005-10-14_small.mov"/>
          <p:cNvPicPr/>
          <p:nvPr/>
        </p:nvPicPr>
        <p:blipFill>
          <a:blip r:embed="rId2"/>
          <a:stretch/>
        </p:blipFill>
        <p:spPr>
          <a:xfrm>
            <a:off x="4689360" y="2174760"/>
            <a:ext cx="3951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18:46Z</dcterms:created>
  <dc:creator>Hirata Naru</dc:creator>
  <dc:description/>
  <dc:language>en-US</dc:language>
  <cp:lastModifiedBy>平田 成</cp:lastModifiedBy>
  <cp:lastPrinted>2009-03-10T22:24:26Z</cp:lastPrinted>
  <dcterms:modified xsi:type="dcterms:W3CDTF">2012-08-28T10:58:55Z</dcterms:modified>
  <cp:revision>368</cp:revision>
  <dc:subject/>
  <dc:title>リモートセンシングデータの解析</dc:title>
</cp:coreProperties>
</file>