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3F10-67C7-4749-9909-DA4FCCA3E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A98C-2F2A-4F3E-A1CB-41E27EA0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DE2-DF1B-44ED-85CD-C9538900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E38-DC21-4CDC-8D83-F5F066C5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A76-F6AD-449A-BFE0-383104F1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42E-DA93-4A68-9CF5-5C06012F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4C9D-2DCE-48D5-8614-CBAE219B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FA17-6B4B-4DB8-A40D-103832A7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E4BB-C196-46EF-9D20-23522E87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3B04-A96A-43F4-9AC5-C2CC5FE2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B241-1269-4A92-95BD-3CEBEC47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1708-EE6D-4998-8074-0B9DABE7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9EB7-CABE-4B7E-87AB-D9CE5F14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986-9F1B-4246-AA71-D655098D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2C21-F043-4D9A-8DE9-352C54DB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E1FE-985C-427D-9CA2-CE6007A5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BD42-FFF9-44E8-8B7A-F3F45EEB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16D9-C2DA-48A4-A52A-12AA4C37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74E-013E-4CF7-A148-49A3447C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2C1-6FA4-478F-98E7-AFC1EE6D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2C7-7512-4151-A472-7CD58F64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7C1-2D3C-4AA9-A099-03C9495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3A6-AD76-4421-84BE-A67EB822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D5A-1759-44D4-B9F9-41EDC76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B2B-D141-4BDC-8373-EB67ABE3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D0D-BE7E-498A-888C-73EEE37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ヒラギノ角ゴ Pro W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8F8E-5DA7-465A-8177-E6916CDDD1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ヒラギノ角ゴ Pro W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56D3-8FD4-4469-A892-5265961FFB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ヒラギノ角ゴ Pro W6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4343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N. Hirata (Univ. of Aizu)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自由実習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今回の講義内容を元に自由にテーマを選んで実習を行う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...</a:t>
            </a: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と言われても途方に暮れてしまう人向けにいくつかモデルテーマを提示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モデルテーマリスト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形状モデルデータを用いた解析と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3D-GIS</a:t>
            </a: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plate_renderer</a:t>
            </a: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を用いた結果の可視化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はやぶさ画像と模擬画像による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bundler</a:t>
            </a: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による小惑星形状認識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形状モデル解析と結果の可視化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形状モデルを解析し，結果を</a:t>
            </a: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3D-GIS/plate_renderer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で可視化できる形式のファイルにして表示する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道具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: SPICE dsk subsystem, 3D-GIS, plate_renderer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解析例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Smooth terrain/Rough terrain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区分け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Head region/Body region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区分け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峰（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ridge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）抽出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区分け結果，抽出結果や既存データとの相関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図形グループ 22"/>
          <p:cNvGrpSpPr/>
          <p:nvPr/>
        </p:nvGrpSpPr>
        <p:grpSpPr>
          <a:xfrm>
            <a:off x="3276720" y="304920"/>
            <a:ext cx="5486400" cy="6095880"/>
            <a:chOff x="3276720" y="304920"/>
            <a:chExt cx="5486400" cy="6095880"/>
          </a:xfrm>
        </p:grpSpPr>
        <p:pic>
          <p:nvPicPr>
            <p:cNvPr id="111" name="図 4" descr="ピクチャ 5.png"/>
            <p:cNvPicPr/>
            <p:nvPr/>
          </p:nvPicPr>
          <p:blipFill>
            <a:blip r:embed="rId1"/>
            <a:srcRect l="6140" t="20001" r="13190" b="36670"/>
            <a:stretch/>
          </p:blipFill>
          <p:spPr>
            <a:xfrm>
              <a:off x="3276720" y="3429000"/>
              <a:ext cx="54864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図 5" descr="ピクチャ 7.png"/>
            <p:cNvPicPr/>
            <p:nvPr/>
          </p:nvPicPr>
          <p:blipFill>
            <a:blip r:embed="rId2"/>
            <a:srcRect l="6140" t="20001" r="13190" b="36670"/>
            <a:stretch/>
          </p:blipFill>
          <p:spPr>
            <a:xfrm>
              <a:off x="3276720" y="304920"/>
              <a:ext cx="5486400" cy="2971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3" name="直線矢印コネクタ 7"/>
            <p:cNvCxnSpPr/>
            <p:nvPr/>
          </p:nvCxnSpPr>
          <p:spPr>
            <a:xfrm flipH="1" flipV="1">
              <a:off x="8458200" y="2514240"/>
              <a:ext cx="305280" cy="2160"/>
            </a:xfrm>
            <a:prstGeom prst="straightConnector1">
              <a:avLst/>
            </a:prstGeom>
            <a:ln w="3492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14" name="直線矢印コネクタ 8"/>
            <p:cNvCxnSpPr/>
            <p:nvPr/>
          </p:nvCxnSpPr>
          <p:spPr>
            <a:xfrm flipV="1">
              <a:off x="7695000" y="2970000"/>
              <a:ext cx="2160" cy="306720"/>
            </a:xfrm>
            <a:prstGeom prst="straightConnector1">
              <a:avLst/>
            </a:prstGeom>
            <a:ln w="3492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15" name="直線矢印コネクタ 11"/>
            <p:cNvCxnSpPr/>
            <p:nvPr/>
          </p:nvCxnSpPr>
          <p:spPr>
            <a:xfrm>
              <a:off x="3505320" y="1674720"/>
              <a:ext cx="381600" cy="2160"/>
            </a:xfrm>
            <a:prstGeom prst="straightConnector1">
              <a:avLst/>
            </a:prstGeom>
            <a:ln w="3492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16" name="直線矢印コネクタ 13"/>
            <p:cNvCxnSpPr/>
            <p:nvPr/>
          </p:nvCxnSpPr>
          <p:spPr>
            <a:xfrm flipH="1">
              <a:off x="5103360" y="3963960"/>
              <a:ext cx="3600" cy="383040"/>
            </a:xfrm>
            <a:prstGeom prst="straightConnector1">
              <a:avLst/>
            </a:prstGeom>
            <a:ln w="3492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17" name="直線矢印コネクタ 15"/>
            <p:cNvCxnSpPr/>
            <p:nvPr/>
          </p:nvCxnSpPr>
          <p:spPr>
            <a:xfrm flipH="1">
              <a:off x="7696080" y="3429000"/>
              <a:ext cx="2160" cy="383040"/>
            </a:xfrm>
            <a:prstGeom prst="straightConnector1">
              <a:avLst/>
            </a:prstGeom>
            <a:ln w="3492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18" name="直線矢印コネクタ 16"/>
            <p:cNvCxnSpPr/>
            <p:nvPr/>
          </p:nvCxnSpPr>
          <p:spPr>
            <a:xfrm flipH="1" flipV="1">
              <a:off x="8458200" y="4346280"/>
              <a:ext cx="305280" cy="2160"/>
            </a:xfrm>
            <a:prstGeom prst="straightConnector1">
              <a:avLst/>
            </a:prstGeom>
            <a:ln w="3492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19" name="直線矢印コネクタ 17"/>
            <p:cNvCxnSpPr/>
            <p:nvPr/>
          </p:nvCxnSpPr>
          <p:spPr>
            <a:xfrm flipH="1" flipV="1">
              <a:off x="8305560" y="5562360"/>
              <a:ext cx="305280" cy="2160"/>
            </a:xfrm>
            <a:prstGeom prst="straightConnector1">
              <a:avLst/>
            </a:prstGeom>
            <a:ln w="3492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20" name="直線矢印コネクタ 19"/>
            <p:cNvCxnSpPr/>
            <p:nvPr/>
          </p:nvCxnSpPr>
          <p:spPr>
            <a:xfrm flipH="1">
              <a:off x="6476760" y="3621240"/>
              <a:ext cx="2160" cy="383040"/>
            </a:xfrm>
            <a:prstGeom prst="straightConnector1">
              <a:avLst/>
            </a:prstGeom>
            <a:ln w="3492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21" name="直線矢印コネクタ 21"/>
            <p:cNvCxnSpPr/>
            <p:nvPr/>
          </p:nvCxnSpPr>
          <p:spPr>
            <a:xfrm flipV="1">
              <a:off x="6478560" y="2815920"/>
              <a:ext cx="2160" cy="306720"/>
            </a:xfrm>
            <a:prstGeom prst="straightConnector1">
              <a:avLst/>
            </a:prstGeom>
            <a:ln w="3492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122" name="テキスト ボックス 24"/>
          <p:cNvSpPr/>
          <p:nvPr/>
        </p:nvSpPr>
        <p:spPr>
          <a:xfrm>
            <a:off x="61459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25"/>
          <p:cNvSpPr/>
          <p:nvPr/>
        </p:nvSpPr>
        <p:spPr>
          <a:xfrm>
            <a:off x="77540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26"/>
          <p:cNvSpPr/>
          <p:nvPr/>
        </p:nvSpPr>
        <p:spPr>
          <a:xfrm>
            <a:off x="7288920" y="3363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27"/>
          <p:cNvSpPr/>
          <p:nvPr/>
        </p:nvSpPr>
        <p:spPr>
          <a:xfrm>
            <a:off x="3292920" y="1306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28"/>
          <p:cNvSpPr/>
          <p:nvPr/>
        </p:nvSpPr>
        <p:spPr>
          <a:xfrm>
            <a:off x="4934520" y="3592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29"/>
          <p:cNvSpPr/>
          <p:nvPr/>
        </p:nvSpPr>
        <p:spPr>
          <a:xfrm>
            <a:off x="8113320" y="2590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30"/>
          <p:cNvSpPr/>
          <p:nvPr/>
        </p:nvSpPr>
        <p:spPr>
          <a:xfrm>
            <a:off x="6153840" y="3440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31"/>
          <p:cNvSpPr/>
          <p:nvPr/>
        </p:nvSpPr>
        <p:spPr>
          <a:xfrm>
            <a:off x="8169840" y="39736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32"/>
          <p:cNvSpPr/>
          <p:nvPr/>
        </p:nvSpPr>
        <p:spPr>
          <a:xfrm>
            <a:off x="8169840" y="5573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図形グループ 29"/>
          <p:cNvGrpSpPr/>
          <p:nvPr/>
        </p:nvGrpSpPr>
        <p:grpSpPr>
          <a:xfrm>
            <a:off x="3279960" y="5911920"/>
            <a:ext cx="2099160" cy="579240"/>
            <a:chOff x="3279960" y="5911920"/>
            <a:chExt cx="2099160" cy="579240"/>
          </a:xfrm>
        </p:grpSpPr>
        <p:pic>
          <p:nvPicPr>
            <p:cNvPr id="132" name="図 8" descr="ピクチャ 2.png"/>
            <p:cNvPicPr/>
            <p:nvPr/>
          </p:nvPicPr>
          <p:blipFill>
            <a:blip r:embed="rId3"/>
            <a:stretch/>
          </p:blipFill>
          <p:spPr>
            <a:xfrm>
              <a:off x="3593160" y="5911920"/>
              <a:ext cx="14691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正方形/長方形 9"/>
            <p:cNvSpPr/>
            <p:nvPr/>
          </p:nvSpPr>
          <p:spPr>
            <a:xfrm>
              <a:off x="3279960" y="60314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正方形/長方形 11"/>
            <p:cNvSpPr/>
            <p:nvPr/>
          </p:nvSpPr>
          <p:spPr>
            <a:xfrm>
              <a:off x="4249080" y="60199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456840" y="1055160"/>
            <a:ext cx="2644920" cy="45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Space Weathering map of Itokawa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Three types of un-weathered regions are identified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ヒラギノ角ゴ Pro W6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ヒラギノ角ゴ Pro W6"/>
              </a:rPr>
              <a:t>Steep slope regions</a:t>
            </a: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ヒラギノ角ゴ Pro W6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ヒラギノ角ゴ Pro W6"/>
              </a:rPr>
              <a:t>Rim of crater candidates</a:t>
            </a: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ヒラギノ角ゴ Pro W6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ヒラギノ角ゴ Pro W6"/>
              </a:rPr>
              <a:t>Ridge of the global shape</a:t>
            </a: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Ridge of the global shape 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grpSp>
        <p:nvGrpSpPr>
          <p:cNvPr id="137" name="図形グループ 13"/>
          <p:cNvGrpSpPr/>
          <p:nvPr/>
        </p:nvGrpSpPr>
        <p:grpSpPr>
          <a:xfrm>
            <a:off x="976680" y="1782720"/>
            <a:ext cx="6374880" cy="4495680"/>
            <a:chOff x="976680" y="1782720"/>
            <a:chExt cx="6374880" cy="4495680"/>
          </a:xfrm>
        </p:grpSpPr>
        <p:pic>
          <p:nvPicPr>
            <p:cNvPr id="138" name="図 3" descr=""/>
            <p:cNvPicPr/>
            <p:nvPr/>
          </p:nvPicPr>
          <p:blipFill>
            <a:blip r:embed="rId1"/>
            <a:srcRect l="23044" t="26422" r="17452" b="26713"/>
            <a:stretch/>
          </p:blipFill>
          <p:spPr>
            <a:xfrm>
              <a:off x="4532040" y="1839600"/>
              <a:ext cx="2819520" cy="26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図 4" descr="ピクチャ 9.png"/>
            <p:cNvPicPr/>
            <p:nvPr/>
          </p:nvPicPr>
          <p:blipFill>
            <a:blip r:embed="rId2"/>
            <a:srcRect l="33615" t="24306" r="26050" b="41600"/>
            <a:stretch/>
          </p:blipFill>
          <p:spPr>
            <a:xfrm>
              <a:off x="1217520" y="1839600"/>
              <a:ext cx="3062160" cy="26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図 5" descr="ピクチャ 8.png"/>
            <p:cNvPicPr/>
            <p:nvPr/>
          </p:nvPicPr>
          <p:blipFill>
            <a:blip r:embed="rId3"/>
            <a:srcRect l="15688" t="21944" r="12046" b="58914"/>
            <a:stretch/>
          </p:blipFill>
          <p:spPr>
            <a:xfrm>
              <a:off x="1217520" y="4678200"/>
              <a:ext cx="5991480" cy="1600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1" name="直線矢印コネクタ 7"/>
            <p:cNvCxnSpPr/>
            <p:nvPr/>
          </p:nvCxnSpPr>
          <p:spPr>
            <a:xfrm>
              <a:off x="1903320" y="3535200"/>
              <a:ext cx="1296000" cy="13723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2" name="直線矢印コネクタ 8"/>
            <p:cNvCxnSpPr/>
            <p:nvPr/>
          </p:nvCxnSpPr>
          <p:spPr>
            <a:xfrm>
              <a:off x="3350520" y="3535200"/>
              <a:ext cx="1448280" cy="13723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3" name="直線矢印コネクタ 10"/>
            <p:cNvCxnSpPr/>
            <p:nvPr/>
          </p:nvCxnSpPr>
          <p:spPr>
            <a:xfrm flipH="1">
              <a:off x="5103000" y="3382560"/>
              <a:ext cx="1448280" cy="1524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4" name="直線矢印コネクタ 14"/>
            <p:cNvCxnSpPr/>
            <p:nvPr/>
          </p:nvCxnSpPr>
          <p:spPr>
            <a:xfrm flipH="1">
              <a:off x="3350160" y="3382560"/>
              <a:ext cx="1448280" cy="1524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5" name="テキスト ボックス 14"/>
            <p:cNvSpPr/>
            <p:nvPr/>
          </p:nvSpPr>
          <p:spPr>
            <a:xfrm>
              <a:off x="976680" y="1782720"/>
              <a:ext cx="22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quatorial 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テキスト ボックス 14"/>
            <p:cNvSpPr/>
            <p:nvPr/>
          </p:nvSpPr>
          <p:spPr>
            <a:xfrm>
              <a:off x="1098360" y="47545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olar 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正方形/長方形 17"/>
            <p:cNvSpPr/>
            <p:nvPr/>
          </p:nvSpPr>
          <p:spPr>
            <a:xfrm>
              <a:off x="4798800" y="2697120"/>
              <a:ext cx="990360" cy="6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ash"/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小惑星形状認識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実画像のうちどれを入力とすると最もよい形状復元が可能か，また模擬画像を用いた場合どうなるかをいろいろなパターンで試す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道具</a:t>
            </a: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: SPICE toolkit, plate_renderer, bundler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画像セットの整理を行った方がよい（探査機直下点経度）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パターン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使用する画像の枚数，カバレッジを変えてみる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JAXA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アーカイブから画像を追加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はやぶさ</a:t>
            </a: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2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での撮像条件などを模擬した画像を作成する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イトカワ以外の</a:t>
            </a: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dsk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でも試してみる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「よい形状復元」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入力画像がなるべく多く処理される（途中で止まらない）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結果点数が多い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カメラ位置推定がもっともらしい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自転軸方向による運用の変化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51" name="コンテンツ プレースホルダー 5" descr=""/>
          <p:cNvPicPr/>
          <p:nvPr/>
        </p:nvPicPr>
        <p:blipFill>
          <a:blip r:embed="rId1"/>
          <a:srcRect l="0" t="-6026" r="0" b="-6026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Kawakami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モデル的な自転軸方向の場合，ミッション期間初期の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GM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では北半球のみの撮像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TD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候補地域とその周辺のみのモデル構築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SfM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が正しく動作するか，試験で要確認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南半球の観測好機は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2019/01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Muller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モデル的自転軸方向でも初期は北極点周辺は非可視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3" name="スライド番号プレースホルダー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04E4-DC5B-441C-A0A8-347ED9E47650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6:18:46Z</dcterms:created>
  <dc:creator>Hirata Naru</dc:creator>
  <dc:description/>
  <dc:language>en-US</dc:language>
  <cp:lastModifiedBy>Naru Hirata</cp:lastModifiedBy>
  <cp:lastPrinted>2009-03-10T22:24:26Z</cp:lastPrinted>
  <dcterms:modified xsi:type="dcterms:W3CDTF">2012-08-29T03:21:58Z</dcterms:modified>
  <cp:revision>387</cp:revision>
  <dc:subject/>
  <dc:title>リモートセンシングデータの解析</dc:title>
</cp:coreProperties>
</file>