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4096-A55A-42B9-9B3E-566C24A31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スライド番号プレースホル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F460-643A-4E8D-9E2B-534D2605B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9B1-E571-4735-9340-18083903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F6A-8741-436C-804D-868CC4AC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1FC-147E-4328-9106-A851D38A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AAC-E25D-40AC-95F3-909E2BAE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2139-1F0D-498C-9E71-1EA4D04D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CFEC-668A-4BBF-8F31-928D5B2E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652F-6A9E-4598-883B-A44AAF9C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BB25-12BB-4D87-8302-A71D782E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1A5F-1397-42DF-B7EC-7BAE007D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7CAB-C18C-43AB-9F7D-626B38D5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47DC-EFE1-40A0-9829-DD5F707B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C31-4C59-47A7-99A2-2AAD83D1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8D5B-2BF8-4786-94CD-D3D32E79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D0FD-710B-408E-81BC-8E24597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0D53-137F-4A12-8EE6-783729FC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16A8-E69F-4F99-8046-A9C1CD44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E649-920C-4EF5-84B7-E189DEAD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CB5-EDC7-4F03-B8AD-670ADDB5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435-95FD-4A48-AB7F-F1BC3306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3EB-C94A-44BA-8643-EF7F3BE2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807-E8B3-4BC4-ABD8-D241EF56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258-BDB2-47A5-893B-55D33C48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714-5258-4F83-9E95-9A8E3147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AF4-0BC1-4638-8C3C-DCA6A0F4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ヒラギノ角ゴ Pro W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6A41-E362-4236-BC2B-DB6E17B3C12A}" type="datetime">
              <a:rPr b="0" lang="ja-JP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26/0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746C-5484-4827-94AF-16AE2C2B10AC}" type="slidenum">
              <a:rPr b="0" lang="en-US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ヒラギノ角ゴ Pro W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0318-DC61-4F45-9CD9-73A6BFB2ABF1}" type="datetime">
              <a:rPr b="0" lang="ja-JP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26/0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4EC3-DFC3-40B9-8B04-9D3C487819C8}" type="slidenum">
              <a:rPr b="0" lang="en-US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ヒラギノ角ゴ Pro W6"/>
              </a:rPr>
              <a:t>第六回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ヒラギノ角ゴ Pro W6"/>
              </a:rPr>
              <a:t>惑星探査データ解析実習会</a:t>
            </a:r>
            <a:endParaRPr b="0" lang="en-US" sz="4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N. Hirata (Univ. of Aizu)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概要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2080" y="15825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6"/>
              </a:rPr>
              <a:t>探査データ解析初心者を対象として，第一線の研究者による手ほどきを行う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6"/>
              </a:rPr>
              <a:t>最新の月惑星探査データ解析の実際に触れつつ，必要な基礎知識・概念を学ぶ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6"/>
              </a:rPr>
              <a:t>今回は主に小惑星探査機「はやぶさ」の観測データと，それに基づく小惑星イトカワの形状モデルを使って，小惑星の形状・地形に関する解析を試みる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6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96A0-9C5D-449B-AA55-2BE54EB99371}" type="slidenum">
              <a:rPr b="0" lang="en-US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実習会の流れ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ヒラギノ角ゴ Pro W6"/>
              </a:rPr>
              <a:t>8/29 PM </a:t>
            </a: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講義・演習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はやぶさについて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AMICA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画像の見方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SPICE toolkit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ヒラギノ角ゴ Pro W6"/>
              </a:rPr>
              <a:t>8/30 AM </a:t>
            </a: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講義・演習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小惑星三次元地理情報システム（</a:t>
            </a: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3D-GIS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）</a:t>
            </a: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Web applet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版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Small Body Mapping Tool (SBMT)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SPICE toolkit DSK subsystem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と</a:t>
            </a: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plate_renderer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による小惑星模擬画像作製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ヒラギノ角ゴ Pro W6"/>
              </a:rPr>
              <a:t>8/30 PM 1 </a:t>
            </a: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講義・演習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3D-GIS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スタンドアロン版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bundler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による小惑星形状認識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ヒラギノ角ゴ Pro W6"/>
              </a:rPr>
              <a:t>8/30 PM 2 </a:t>
            </a: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自由実習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形状モデルデータを用いた解析と</a:t>
            </a: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3D-GIS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，</a:t>
            </a: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plate_renderer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を用いた結果の可視化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はやぶさ画像と模擬画像による</a:t>
            </a: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bundler</a:t>
            </a: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による小惑星形状認識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ヒラギノ角ゴ Pro W6"/>
              </a:rPr>
              <a:t>8/31 AM </a:t>
            </a: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自由実習続き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ヒラギノ角ゴ Pro W6"/>
              </a:rPr>
              <a:t>8/31 PM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ヒラギノ角ゴ Pro W6"/>
              </a:rPr>
              <a:t>発表会（宇宙ハッカソンと合同開催）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0" name="スライド番号プレースホルダー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E932-8B05-4856-AE78-406B99D21F24}" type="slidenum">
              <a:rPr b="0" lang="en-US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宇宙ハッカソン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Space Hackathon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Hacking + Marathon</a:t>
            </a: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：ハッキングマラソン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計算機好きがタコ部屋形式で特定テーマのプログラム開発を集中して行なうイベント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「宇宙科学の実データ」を素材に，となりの部屋（中講義室</a:t>
            </a: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M11</a:t>
            </a: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，実習会お茶スペース兼用）で昨日から開催中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昨日は素材説明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発表会を合同開催予定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3" name="スライド番号プレースホルダー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8AA4-73BF-47A5-B943-C994022CC5D1}" type="slidenum">
              <a:rPr b="0" lang="en-US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無線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LAN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SID: itokawa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Pass: itokawa.2012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WPA2/WPA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6" name="スライド番号プレースホルダー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FDF5-7619-4947-9620-434EC6C12070}" type="slidenum">
              <a:rPr b="0" lang="en-US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お手洗い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8" name="スライド番号プレースホルダー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F775-BD2F-4424-8968-BBA1E8F2E2B0}" type="slidenum">
              <a:rPr b="0" lang="en-US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正方形/長方形 4"/>
          <p:cNvSpPr/>
          <p:nvPr/>
        </p:nvSpPr>
        <p:spPr>
          <a:xfrm>
            <a:off x="3492360" y="1628640"/>
            <a:ext cx="2664000" cy="8636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習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正方形/長方形 5"/>
          <p:cNvSpPr/>
          <p:nvPr/>
        </p:nvSpPr>
        <p:spPr>
          <a:xfrm>
            <a:off x="6161040" y="1628640"/>
            <a:ext cx="2658960" cy="8636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kathon+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正方形/長方形 6"/>
          <p:cNvSpPr/>
          <p:nvPr/>
        </p:nvSpPr>
        <p:spPr>
          <a:xfrm>
            <a:off x="2050920" y="1628640"/>
            <a:ext cx="1441440" cy="863640"/>
          </a:xfrm>
          <a:prstGeom prst="rect">
            <a:avLst/>
          </a:prstGeom>
          <a:solidFill>
            <a:srgbClr val="595959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正方形/長方形 7"/>
          <p:cNvSpPr/>
          <p:nvPr/>
        </p:nvSpPr>
        <p:spPr>
          <a:xfrm>
            <a:off x="1332000" y="3068640"/>
            <a:ext cx="1439640" cy="8650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正方形/長方形 8"/>
          <p:cNvSpPr/>
          <p:nvPr/>
        </p:nvSpPr>
        <p:spPr>
          <a:xfrm>
            <a:off x="1332000" y="4221000"/>
            <a:ext cx="1439640" cy="1152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手洗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正方形/長方形 9"/>
          <p:cNvSpPr/>
          <p:nvPr/>
        </p:nvSpPr>
        <p:spPr>
          <a:xfrm>
            <a:off x="-27000" y="3068640"/>
            <a:ext cx="638280" cy="3789360"/>
          </a:xfrm>
          <a:prstGeom prst="rect">
            <a:avLst/>
          </a:prstGeom>
          <a:solidFill>
            <a:srgbClr val="595959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正方形/長方形 10"/>
          <p:cNvSpPr/>
          <p:nvPr/>
        </p:nvSpPr>
        <p:spPr>
          <a:xfrm>
            <a:off x="3492360" y="3068640"/>
            <a:ext cx="638280" cy="3789360"/>
          </a:xfrm>
          <a:prstGeom prst="rect">
            <a:avLst/>
          </a:prstGeom>
          <a:solidFill>
            <a:srgbClr val="595959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正方形/長方形 11"/>
          <p:cNvSpPr/>
          <p:nvPr/>
        </p:nvSpPr>
        <p:spPr>
          <a:xfrm>
            <a:off x="8820000" y="1628640"/>
            <a:ext cx="368280" cy="863640"/>
          </a:xfrm>
          <a:prstGeom prst="rect">
            <a:avLst/>
          </a:prstGeom>
          <a:solidFill>
            <a:srgbClr val="595959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直線コネクタ 13"/>
          <p:cNvSpPr/>
          <p:nvPr/>
        </p:nvSpPr>
        <p:spPr>
          <a:xfrm>
            <a:off x="3492360" y="3068640"/>
            <a:ext cx="569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カギ線コネクタ 17"/>
          <p:cNvCxnSpPr/>
          <p:nvPr/>
        </p:nvCxnSpPr>
        <p:spPr>
          <a:xfrm flipV="1" rot="10800000">
            <a:off x="-720" y="1628640"/>
            <a:ext cx="9189000" cy="1440360"/>
          </a:xfrm>
          <a:prstGeom prst="bentConnector3">
            <a:avLst>
              <a:gd name="adj1" fmla="val 100113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29" name="直線コネクタ 24"/>
          <p:cNvSpPr/>
          <p:nvPr/>
        </p:nvSpPr>
        <p:spPr>
          <a:xfrm>
            <a:off x="2771640" y="5373720"/>
            <a:ext cx="0" cy="14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直線コネクタ 27"/>
          <p:cNvSpPr/>
          <p:nvPr/>
        </p:nvSpPr>
        <p:spPr>
          <a:xfrm>
            <a:off x="1332000" y="5373720"/>
            <a:ext cx="0" cy="14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カギ線コネクタ 29"/>
          <p:cNvCxnSpPr>
            <a:stCxn id="119" idx="2"/>
          </p:cNvCxnSpPr>
          <p:nvPr/>
        </p:nvCxnSpPr>
        <p:spPr>
          <a:xfrm rot="5400000">
            <a:off x="2722680" y="679680"/>
            <a:ext cx="289440" cy="391392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カギ線コネクタ 33"/>
          <p:cNvCxnSpPr>
            <a:endCxn id="123" idx="1"/>
          </p:cNvCxnSpPr>
          <p:nvPr/>
        </p:nvCxnSpPr>
        <p:spPr>
          <a:xfrm flipH="1" rot="16200000">
            <a:off x="112680" y="3578760"/>
            <a:ext cx="2016720" cy="42156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明日以降の昼食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学食やってます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希望者は出前取れます＞本田さんまで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会津名物ソースカツ丼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うな丼？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平田おすすめから揚げ弁当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ラーメン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車持ちをゲット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or</a:t>
            </a: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タクシー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おすすめ教えます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5" name="スライド番号プレースホルダー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47A0-860C-4945-8A02-2AFBA59B8435}" type="slidenum">
              <a:rPr b="0" lang="en-US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懇親会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今晩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詳しくは本田さんアナウンス参照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スライド番号プレースホルダー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3179-3EE2-40A1-9ABD-95C7718A13FF}" type="slidenum">
              <a:rPr b="0" lang="en-US" sz="18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3:50:22Z</dcterms:created>
  <dc:creator>平田 成</dc:creator>
  <dc:description/>
  <dc:language>en-US</dc:language>
  <cp:lastModifiedBy>Naru Hirata</cp:lastModifiedBy>
  <cp:lastPrinted>2009-04-16T04:24:24Z</cp:lastPrinted>
  <dcterms:modified xsi:type="dcterms:W3CDTF">2012-08-29T03:12:27Z</dcterms:modified>
  <cp:revision>238</cp:revision>
  <dc:subject/>
  <dc:title>はやぶさ地球スイングバイとSPICEの利用</dc:title>
</cp:coreProperties>
</file>