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9" name="PlaceHolder 2"/>
          <p:cNvSpPr>
            <a:spLocks noGrp="1"/>
          </p:cNvSpPr>
          <p:nvPr>
            <p:ph type="dt" idx="4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Click to move the slide</a:t>
            </a:r>
            <a:endParaRPr b="0" lang="en-US" sz="3800" spc="-1" strike="noStrike">
              <a:solidFill>
                <a:srgbClr val="000000"/>
              </a:solidFill>
              <a:latin typeface="ヒラギノ角ゴ Pro W6"/>
            </a:endParaRPr>
          </a:p>
        </p:txBody>
      </p:sp>
      <p:sp>
        <p:nvSpPr>
          <p:cNvPr id="5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2" name="PlaceHolder 5"/>
          <p:cNvSpPr>
            <a:spLocks noGrp="1"/>
          </p:cNvSpPr>
          <p:nvPr>
            <p:ph type="ftr" idx="4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3" name="PlaceHolder 6"/>
          <p:cNvSpPr>
            <a:spLocks noGrp="1"/>
          </p:cNvSpPr>
          <p:nvPr>
            <p:ph type="sldNum" idx="4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8034-89DC-4B7C-981D-B18A79518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AD02-C7C2-4154-99C1-22A9D8636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on another topic in my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grapple with a task how to represent map information of irregular shaped small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blem same on location-oriented search rises on this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pherical bodies, we usually use a plane paper map or its mimic on PC display. Geographical information are projected by a specific projection method onto a plane. Such projection methods are developed for spherical or ellipsoidal bodies, so they are  based on a spherical coordinate. It cannot apply to an irregular-shaped body. </a:t>
            </a:r>
            <a:endParaRPr b="0" lang="en-US" sz="1200" spc="-1" strike="noStrike">
              <a:solidFill>
                <a:srgbClr val="000000"/>
              </a:solidFill>
              <a:latin typeface="Arial"/>
            </a:endParaRPr>
          </a:p>
        </p:txBody>
      </p:sp>
      <p:sp>
        <p:nvSpPr>
          <p:cNvPr id="635" name="スライド番号プレースホルダー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DF62-F619-46B4-8A3D-6569E77142A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teroid Itokawa, the target of the Hayabusa mission, has an extremely non-spherical shape. On Itokawa, the traditional geographic coordinate system do not work well.</a:t>
            </a:r>
            <a:endParaRPr b="0" lang="en-US" sz="1200" spc="-1" strike="noStrike">
              <a:solidFill>
                <a:srgbClr val="000000"/>
              </a:solidFill>
              <a:latin typeface="Arial"/>
            </a:endParaRPr>
          </a:p>
        </p:txBody>
      </p:sp>
      <p:sp>
        <p:nvSpPr>
          <p:cNvPr id="638" name="スライド番号プレースホルダー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2750-4A66-4140-A607-633A971E70A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he coordinate is the center of mass of the asteroid. Latitude and longitude are defined by the direction of the vector to the certain point on the surface. However, the vector may have multiple intersections at the surface. In this case, the uniqueness of the Latitude and longitude representation is broken. So we need an alternative way to describe locations on the surface of irregular-shaped bodies.</a:t>
            </a:r>
            <a:endParaRPr b="0" lang="en-US" sz="1200" spc="-1" strike="noStrike">
              <a:solidFill>
                <a:srgbClr val="000000"/>
              </a:solidFill>
              <a:latin typeface="Arial"/>
            </a:endParaRPr>
          </a:p>
        </p:txBody>
      </p:sp>
      <p:sp>
        <p:nvSpPr>
          <p:cNvPr id="641" name="スライド番号プレースホルダー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CA0C-BC9A-416A-972A-0BBD41BEF37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tools so called virtual globe are developed. Google Earth or NASA WorldWind are major examples of this category of tools. virtual globes provide perspective view of the target body, and also are able to display various mapping data as texture data on the globe.</a:t>
            </a:r>
            <a:endParaRPr b="0" lang="en-US" sz="1200" spc="-1" strike="noStrike">
              <a:solidFill>
                <a:srgbClr val="000000"/>
              </a:solidFill>
              <a:latin typeface="Arial"/>
            </a:endParaRPr>
          </a:p>
        </p:txBody>
      </p:sp>
      <p:sp>
        <p:nvSpPr>
          <p:cNvPr id="644" name="スライド番号プレースホルダー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1CC7-7C70-45FB-8443-D4CA87620CE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erspective view concept can be applied to irregular shaped bodies. We named such tools as 3D-GIS, and developed a web application with this concept. It also should be noted that APL NEAR-shoemaker group has developed similar tool, Small body mapping tool (SMBT) with this concept. </a:t>
            </a:r>
            <a:endParaRPr b="0" lang="en-US" sz="1200" spc="-1" strike="noStrike">
              <a:solidFill>
                <a:srgbClr val="000000"/>
              </a:solidFill>
              <a:latin typeface="Arial"/>
            </a:endParaRPr>
          </a:p>
        </p:txBody>
      </p:sp>
      <p:sp>
        <p:nvSpPr>
          <p:cNvPr id="647" name="スライド番号プレースホルダー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9CBD-67CD-4F05-9E43-D1C9EB07473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nap shot of our 3D-GIS web application. This tool is developed with Java and OpenGL. You can see a shape model of Itokawa developed by Bob Gaskell displayed here. The model has about 50 thousand polygons. Layers of map data available now are gravitational potential, slope, visible brightness,  NIR reflectance, and space weathering index derived from visible and NIR data. In this snapshot, local slope that defined by gravitation vector and polygon normal is displayed.</a:t>
            </a:r>
            <a:endParaRPr b="0" lang="en-US" sz="1200" spc="-1" strike="noStrike">
              <a:solidFill>
                <a:srgbClr val="000000"/>
              </a:solidFill>
              <a:latin typeface="Arial"/>
            </a:endParaRPr>
          </a:p>
        </p:txBody>
      </p:sp>
      <p:sp>
        <p:nvSpPr>
          <p:cNvPr id="650" name="スライド番号プレースホルダー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0004-BF44-428B-966B-9DDE5CEBC21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an manipulate this 3D model by mouse operation. It can rotate, it can zoom-in and zoom-out. User also control look-up-table of mapping layers by these sliders. Even though there are local failure on uniqueness of latitude/longitude values, the lat/lon grid is helpful for guidance for users. Physical values of every layers at a specific location are displayed here.</a:t>
            </a:r>
            <a:endParaRPr b="0" lang="en-US" sz="1200" spc="-1" strike="noStrike">
              <a:solidFill>
                <a:srgbClr val="000000"/>
              </a:solidFill>
              <a:latin typeface="Arial"/>
            </a:endParaRPr>
          </a:p>
        </p:txBody>
      </p:sp>
      <p:sp>
        <p:nvSpPr>
          <p:cNvPr id="653" name="スライド番号プレースホルダー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6DB2-4DC0-4668-8395-24EA8869ECB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66010-7054-45B5-856B-8B5219CBA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E886-600D-482C-8503-8E03D87BB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669B2E-4538-4F47-842B-B8E13552C4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81B2E2-ED63-4890-A6B3-8EFA32E740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FD8A5E-811E-42B0-8924-7BDA75135E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656A2-BBC8-401C-8FB1-DF7219162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AEA0F-3544-476E-B96E-6F7E00D06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C3235-4095-4B3B-8BF5-87C25839D4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5B5D3E-1579-49CD-A5D6-B7E176857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38AEDB-318B-4BE9-9F35-4022CC5020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A3FCBA-68A0-4420-95CA-A52247331C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3C8AAB-E418-40A2-BE7B-45C213DB11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15AA0-F2F4-4B9A-AA08-F1897FDDF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E79F7C-903A-40E3-B573-790DF5F892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6FFCFF-77BE-44F0-9110-B2C1E6E7E7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446851-4A16-404F-9FFC-C4D890C4E7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02253D-ACFF-4D85-9540-62E69F32B5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8D0E71-4E48-4508-A3B4-3635118895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646789-094C-4A94-A5EA-4D7B849022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519B9D-B271-48A5-8BF0-BA11E9C63C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F6BD7F-4558-49FD-998B-5833943026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25D3B6-7F95-4D5A-A3C2-093863F1DC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01474B-23CA-45F5-B84D-F88FF8C274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FD7B2-1453-4425-A96C-8BFDB1F3D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D010E4-2193-4990-84C1-1EF810C034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080D24-BBDC-4D20-97FA-7A52A5867B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E46C0F-3E05-4C8A-B7CB-EF7FE059DB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0A780B-7875-49FC-AA57-D2DDA489C7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359B4E-DF34-4E57-85BC-486DD8C6DD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422F2C-EC9F-495F-9282-02E0501C91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8DD75E-35C6-4F0F-AA4D-FDF6162E01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1840AE-7BB2-4F66-838D-7419571E3A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9E829D-197B-4D68-9E30-8D18847B97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82965E-CAEB-4223-BCC9-B9E9691581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9C388-528B-465D-BF89-A455A8928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C333C3-5487-41F6-9811-EF49B8D870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2E2CCD-A45B-4E7D-92E0-974A2C9154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3FBC4C-106D-494B-BEA2-1CA8C30043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BA1BB1-9ED5-4D92-A822-418273AE3B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B56D66-C4A2-4054-8BB2-92563F41C1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271FD4-123C-4B72-BEE8-EC557CA3EB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CF6D53-FC50-4A39-9550-9EED6489E3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9A1BF6-49C6-4281-9C9A-E3FEE931BE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F8BF9E-B45D-4035-BC7D-8D38A9B7CB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F74AF9-30EA-4872-83D3-2F0EEA47F9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4FD60-63FE-40CD-842A-92ABE60A9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2A422D-3D07-4635-A77F-BC6CA821D2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EF6E8E-3D6D-435F-A7F7-3E9DF9DB09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9C3E52-878A-428A-81AB-3890BBB6F6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A16E5F-33D8-4126-9A00-42711D5416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4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6747F3A-33C3-4147-9B0A-8E22F57C94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9D90D2-4521-4AB5-936F-2E44DDAAB8D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21111A-BD19-4ABD-A3F5-4C68BDB76F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6A36B5-1FB3-4368-92A1-D3708C25E6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B8A248-AB9D-4502-8DAB-DA25F91981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47943D-F027-43CE-8102-AEB1EC406F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A36E9-B8F7-4E05-B341-DCC198BED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F80F99-D5A4-44BE-810D-84C2427B6E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649A89-0B81-457E-B16A-B5FE1C0B97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4B270A-30A7-428D-AB6E-E90702E1ED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073B06-453F-4D18-BDD2-E5643B97D9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F56AA9-7B40-4BA3-88E9-709B6424B2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7366F2-529A-4F4E-8B6C-F4309F0140B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F89007B-D7AA-424A-A0FA-438EAEC5F38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4250DCF-40A3-4DFA-9CA7-E08C5FF8F1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33B91C-5B3A-484E-B8C2-3C0E0B1D94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E09AE6-0568-422E-98A4-238EE47418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DB6AC-055D-4F94-B3A6-5E8DBC1F2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D762E8F-F294-47E6-A4F2-12560DAF3F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5D5EBF-2D08-494B-B5B4-C74E71D48B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D4E1C8-8BE9-47E4-9815-14BA616A0F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AF0BD1-2344-4FC2-ACB7-B32F8CEE14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D20374-B5D2-40B3-9071-637AFF34B0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6A878D-F5AB-4ED4-B0A3-9F22227BA0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771797-2583-4B59-A091-6605EA0D98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CD81AE2-B8F2-4FD6-9879-8406F301E74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5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90945D-36D5-4AB2-A0F3-9229CD5FC35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41DB8-6107-42C0-93E0-CAA3F78E5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C7972-61C5-47BC-A51A-5909BA236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42637-BCC8-4424-BD2B-2C9271F16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FED0F-A5D0-4254-B2BD-0FF60447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051BC-3B09-40A6-965A-9EF0DE883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83889-55C1-4B36-AA4C-963639969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3825C-7E62-4A23-BB14-B2CB6CFA1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A9C7C-1D03-45AA-A272-62BBC8654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EC359-7668-4CD7-80B2-A50227452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DB59E-5CCA-4750-9E31-34B6880C87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53A64-BF6A-4C84-A902-D2D4FF299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64923-A96B-4FC7-8948-AA027B7940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F1E78-0938-4EB1-ADC9-19610271DA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CA664-22FB-476C-AEA7-8538084BA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43587-0BF9-409A-9DF6-62811E798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BE8667-EC63-48B3-B186-5822E419F4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2EE30-4CAB-42F7-845A-249F10257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929A1-EB8A-4BE7-88D7-FCAD68866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8F55C-FB94-468F-BA0F-0EE29756B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E294A-EC25-428F-A346-A37E187FC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5072BF-231A-43C0-A2D4-D0845C6469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36F246-7662-4ED3-A529-F730CB8C5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AB8915-1095-4166-B7C8-D6FFFA766C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C8434-DFA6-4C97-88C4-DDABA18B11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0B8B2F-4D50-407D-A138-C39FB6F22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18721-9B82-43DA-B0AE-99C2C85DD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5EE27-6CD8-49AE-965F-D8C6C3AC16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9CCC3-70F9-434A-B7DB-ACF025FB7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8650C-0054-42FA-8D29-81DDD037FE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282CF-F144-47F9-8095-A923A2B45B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3CBB3-798F-4D61-9C69-BD0FBD665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866F0-384E-4A52-833D-52781DE16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80203-82ED-4791-8C09-12A85EF2A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B6C90E-E39F-401B-AAA6-09AA8D60E7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CA7279-0CE8-4E7A-88B2-BEB6C8E59A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515ABB-48BD-40C5-AD04-D98D0CFBD7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A4FB7-A636-4255-9289-2F7278007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71A89-FFD8-4D7C-B436-89AA5A5C7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5ECC36-F8A3-4BA8-8C18-8AD039DB20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7AA92-D8C6-495A-8901-40EAF1264C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F3D67E-FA82-4BE3-B856-EC68C612A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BF78A5-E4E4-4F93-98FF-15B0B37A5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45658-64BA-43BD-AA4F-CEE69798F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1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1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3F570B-9022-4568-B0A6-EE8F29107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E4316A-2992-47DE-A889-0CDE59B40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4E2E85-9DE1-4627-A666-DE96DCEE7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C33B87-6872-47EC-B587-C7B5FC20B7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243AD-35FA-408D-A5F5-BE4A013E8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A47F4A-6276-4A9F-9165-35BA038DBD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D289E3-8122-4193-9BC2-62A6E1C160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71DDF1-72E9-46F2-9ADD-CCF378495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3E5A0-9B04-4094-B558-22C999BE9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FD87E-6E15-4F40-B531-C8C383761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BBC7D-352D-46A7-894D-E8180D02B2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80E045-5CAE-4562-BB61-74CB81201E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338D8-7639-4658-8033-A1A436598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5BA10-D653-4D9C-9BA4-09D189B685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7759B-10E9-446E-AB7E-B231788C0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AD1D9-F8FA-4616-AA61-19B136FE9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0B65A7-2E17-4957-BB3A-1E4A1965B1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796446-F1CC-494F-84C3-E55A91E2C3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C7500E-4CAE-4DDB-9A93-6F11122331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C83EB2-6BA0-4307-AF9E-CDD893B85F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D41D67-B75F-445A-A671-D94259A2C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4C4BAD-15C5-4634-AC31-79550D1046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702473-B0D9-4FF5-96D2-D76D8917A7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3B6724-947C-48E6-8F1F-A840CE121F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C076CC-FA01-4EC2-913A-63967D720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4CC3F-5967-4E41-9BBA-000193CF3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4EDE7-F07B-4437-937C-EA92C3233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BF66D-9508-49EC-9568-63CD5CA71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FEC2BB-617F-4D33-A93E-1C02877A2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3D0840-41DE-4E02-BA65-74BF66CD06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73F98E-6E10-4A1A-8455-950E57C2A0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2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A30116-80C5-4A98-B4A5-930E9B83E7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BE81B5-D8F5-44F0-AEA2-5B9F64498A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A943AA-832A-4E40-ACB2-80CD2F88DB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83E5E7-198E-46DB-83D5-B4DD278559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2C44F2-44A5-48A6-AF52-68B60AD1BE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7B32BD-EAA1-4509-912F-40919841FC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91014-B1ED-497F-9CFD-0730F665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4DE473-9C0D-48EE-B47B-0DDEA01D96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F50EE-7926-49F6-A5D2-6CA3C57E8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B2DFF-7B98-4C61-8E0A-29FB856207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063AC9-31CD-4BF3-BF6A-58B1A08C34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FF059-2CAB-40B1-8F84-73FDAC16EC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74C6FD-2AB1-436F-9DDF-AD730E72D4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3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4E8E1C-509E-4B1E-8E25-BFDA694688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3B84D2-4E2B-4810-89B6-9353E40139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2F3CF4-B2C0-4557-AD24-2E59AC26A3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ヒラギノ角ゴ Pro W6"/>
            </a:endParaRPr>
          </a:p>
        </p:txBody>
      </p:sp>
      <p:sp>
        <p:nvSpPr>
          <p:cNvPr id="3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3F4450-1C47-42DA-B9CB-AAF5828F97F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Click to edit the outline text format</a:t>
            </a:r>
            <a:endParaRPr b="0" lang="en-US" sz="3200" spc="-1" strike="noStrike">
              <a:solidFill>
                <a:srgbClr val="000000"/>
              </a:solidFill>
              <a:latin typeface="ヒラギノ角ゴ Pro W6"/>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cond Outline Level</a:t>
            </a:r>
            <a:endParaRPr b="0" lang="en-US" sz="3200" spc="-1" strike="noStrike">
              <a:solidFill>
                <a:srgbClr val="000000"/>
              </a:solidFill>
              <a:latin typeface="ヒラギノ角ゴ Pro W6"/>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hird Outline Level</a:t>
            </a:r>
            <a:endParaRPr b="0" lang="en-US" sz="3200" spc="-1" strike="noStrike">
              <a:solidFill>
                <a:srgbClr val="000000"/>
              </a:solidFill>
              <a:latin typeface="ヒラギノ角ゴ Pro W6"/>
            </a:endParaRPr>
          </a:p>
          <a:p>
            <a:pPr lvl="3" marL="1600200" indent="-228600">
              <a:spcBef>
                <a:spcPts val="799"/>
              </a:spcBef>
              <a:buClr>
                <a:srgbClr val="ccccff"/>
              </a:buClr>
              <a:buFont typeface="ヒラギノ角ゴ Pro W6"/>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ourth Outline Level</a:t>
            </a:r>
            <a:endParaRPr b="0" lang="en-US" sz="3200" spc="-1" strike="noStrike">
              <a:solidFill>
                <a:srgbClr val="000000"/>
              </a:solidFill>
              <a:latin typeface="ヒラギノ角ゴ Pro W6"/>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ifth Outline Level</a:t>
            </a:r>
            <a:endParaRPr b="0" lang="en-US" sz="3200" spc="-1" strike="noStrike">
              <a:solidFill>
                <a:srgbClr val="000000"/>
              </a:solidFill>
              <a:latin typeface="ヒラギノ角ゴ Pro W6"/>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ixth Outline Level</a:t>
            </a:r>
            <a:endParaRPr b="0" lang="en-US" sz="3200" spc="-1" strike="noStrike">
              <a:solidFill>
                <a:srgbClr val="000000"/>
              </a:solidFill>
              <a:latin typeface="ヒラギノ角ゴ Pro W6"/>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venth Outline Level</a:t>
            </a:r>
            <a:endParaRPr b="0" lang="en-US" sz="3200" spc="-1" strike="noStrike">
              <a:solidFill>
                <a:srgbClr val="000000"/>
              </a:solidFill>
              <a:latin typeface="ヒラギノ角ゴ Pro W6"/>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029B-338A-4E06-B70F-30F5636973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Click to edit the title text format</a:t>
            </a:r>
            <a:endParaRPr b="0" lang="en-US" sz="3800" spc="-1" strike="noStrike">
              <a:solidFill>
                <a:srgbClr val="000000"/>
              </a:solidFill>
              <a:latin typeface="ヒラギノ角ゴ Pro W6"/>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8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8FC8-45D9-46FB-B5E3-677230DC424C}"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2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4CB4-4D09-4BDB-AF5C-5F44B201331C}"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93CC-86C4-4B69-813A-145929B8AFE3}"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8B88-74F0-42B3-A5C1-5D2690B30465}"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2F76-E2A6-4B23-917A-CB2FA598E650}"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406B0-27AA-4430-8E5A-E250BBB751C5}"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1658520" y="1600200"/>
            <a:ext cx="6837480" cy="3200400"/>
            <a:chOff x="1658520" y="1600200"/>
            <a:chExt cx="6837480" cy="3200400"/>
          </a:xfrm>
        </p:grpSpPr>
        <p:sp>
          <p:nvSpPr>
            <p:cNvPr id="8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Click to edit the outline text format</a:t>
            </a:r>
            <a:endParaRPr b="0" lang="en-US" sz="3200" spc="-1" strike="noStrike">
              <a:solidFill>
                <a:srgbClr val="000000"/>
              </a:solidFill>
              <a:latin typeface="ヒラギノ角ゴ Pro W6"/>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cond Outline Level</a:t>
            </a:r>
            <a:endParaRPr b="0" lang="en-US" sz="3200" spc="-1" strike="noStrike">
              <a:solidFill>
                <a:srgbClr val="000000"/>
              </a:solidFill>
              <a:latin typeface="ヒラギノ角ゴ Pro W6"/>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Third Outline Level</a:t>
            </a:r>
            <a:endParaRPr b="0" lang="en-US" sz="3200" spc="-1" strike="noStrike">
              <a:solidFill>
                <a:srgbClr val="000000"/>
              </a:solidFill>
              <a:latin typeface="ヒラギノ角ゴ Pro W6"/>
            </a:endParaRPr>
          </a:p>
          <a:p>
            <a:pPr lvl="3" marL="1600200" indent="-228600">
              <a:spcBef>
                <a:spcPts val="799"/>
              </a:spcBef>
              <a:buClr>
                <a:srgbClr val="ccccff"/>
              </a:buClr>
              <a:buFont typeface="ヒラギノ角ゴ Pro W6"/>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ourth Outline Level</a:t>
            </a:r>
            <a:endParaRPr b="0" lang="en-US" sz="3200" spc="-1" strike="noStrike">
              <a:solidFill>
                <a:srgbClr val="000000"/>
              </a:solidFill>
              <a:latin typeface="ヒラギノ角ゴ Pro W6"/>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Fifth Outline Level</a:t>
            </a:r>
            <a:endParaRPr b="0" lang="en-US" sz="3200" spc="-1" strike="noStrike">
              <a:solidFill>
                <a:srgbClr val="000000"/>
              </a:solidFill>
              <a:latin typeface="ヒラギノ角ゴ Pro W6"/>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ixth Outline Level</a:t>
            </a:r>
            <a:endParaRPr b="0" lang="en-US" sz="3200" spc="-1" strike="noStrike">
              <a:solidFill>
                <a:srgbClr val="000000"/>
              </a:solidFill>
              <a:latin typeface="ヒラギノ角ゴ Pro W6"/>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eventh Outline Level</a:t>
            </a:r>
            <a:endParaRPr b="0" lang="en-US" sz="3200" spc="-1" strike="noStrike">
              <a:solidFill>
                <a:srgbClr val="000000"/>
              </a:solidFill>
              <a:latin typeface="ヒラギノ角ゴ Pro W6"/>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Click to edit the title text format</a:t>
            </a:r>
            <a:endParaRPr b="0" lang="en-US" sz="3800" spc="-1" strike="noStrike">
              <a:solidFill>
                <a:srgbClr val="000000"/>
              </a:solidFill>
              <a:latin typeface="ヒラギノ角ゴ Pro W6"/>
            </a:endParaRPr>
          </a:p>
        </p:txBody>
      </p:sp>
      <p:sp>
        <p:nvSpPr>
          <p:cNvPr id="9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73E6-CB06-4888-9EF3-BFEB13869B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D6B7-9A83-4834-8318-D0A42A6310FC}"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CD49-5AF5-4056-96F5-B5B38D1EF9A0}"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CEA4-5DBC-4AA3-8AA1-5D7CCF042E2D}"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DCB9-85C7-49A4-8837-EBF11BF69E89}"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384D-D9AD-4847-9C41-95415026A281}"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5603-B3E3-4E04-AE06-0ED9D0C6A324}"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219320"/>
            <a:ext cx="7772400" cy="30477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ヒラギノ角ゴ Pro W6"/>
              </a:rPr>
              <a:t>3D-GIS &amp; Small Body Mapping Tool</a:t>
            </a:r>
            <a:endParaRPr b="0" lang="en-US" sz="4000" spc="-1" strike="noStrike">
              <a:solidFill>
                <a:srgbClr val="000000"/>
              </a:solidFill>
              <a:latin typeface="ヒラギノ角ゴ Pro W6"/>
            </a:endParaRPr>
          </a:p>
        </p:txBody>
      </p:sp>
      <p:sp>
        <p:nvSpPr>
          <p:cNvPr id="595" name="PlaceHolder 2"/>
          <p:cNvSpPr>
            <a:spLocks noGrp="1"/>
          </p:cNvSpPr>
          <p:nvPr>
            <p:ph type="subTitle"/>
          </p:nvPr>
        </p:nvSpPr>
        <p:spPr>
          <a:xfrm>
            <a:off x="2057400" y="4343400"/>
            <a:ext cx="6400800" cy="914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N. Hirata (Univ. of Aizu)</a:t>
            </a:r>
            <a:endParaRPr b="0" lang="en-US" sz="32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mall Body Mapping Tool: SMBT</a:t>
            </a:r>
            <a:endParaRPr b="0" lang="en-US" sz="3800" spc="-1" strike="noStrike">
              <a:solidFill>
                <a:srgbClr val="000000"/>
              </a:solidFill>
              <a:latin typeface="ヒラギノ角ゴ Pro W6"/>
            </a:endParaRPr>
          </a:p>
        </p:txBody>
      </p:sp>
      <p:sp>
        <p:nvSpPr>
          <p:cNvPr id="62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Johns Hopkins Univ.</a:t>
            </a:r>
            <a:r>
              <a:rPr b="0" lang="ja-JP" sz="3200" spc="-1" strike="noStrike">
                <a:solidFill>
                  <a:srgbClr val="000000"/>
                </a:solidFill>
                <a:latin typeface="ヒラギノ角ゴ Pro W6"/>
              </a:rPr>
              <a:t>の</a:t>
            </a:r>
            <a:r>
              <a:rPr b="0" lang="en-US" sz="3200" spc="-1" strike="noStrike">
                <a:solidFill>
                  <a:srgbClr val="000000"/>
                </a:solidFill>
                <a:latin typeface="ヒラギノ角ゴ Pro W6"/>
              </a:rPr>
              <a:t>Applied Physics Lab (JHU/APL)</a:t>
            </a:r>
            <a:r>
              <a:rPr b="0" lang="ja-JP" sz="3200" spc="-1" strike="noStrike">
                <a:solidFill>
                  <a:srgbClr val="000000"/>
                </a:solidFill>
                <a:latin typeface="ヒラギノ角ゴ Pro W6"/>
              </a:rPr>
              <a:t>で開発</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コンセプトとしては会津大の</a:t>
            </a:r>
            <a:r>
              <a:rPr b="0" lang="en-US" sz="3200" spc="-1" strike="noStrike">
                <a:solidFill>
                  <a:srgbClr val="000000"/>
                </a:solidFill>
                <a:latin typeface="ヒラギノ角ゴ Pro W6"/>
              </a:rPr>
              <a:t>3D-GIS</a:t>
            </a:r>
            <a:r>
              <a:rPr b="0" lang="ja-JP" sz="3200" spc="-1" strike="noStrike">
                <a:solidFill>
                  <a:srgbClr val="000000"/>
                </a:solidFill>
                <a:latin typeface="ヒラギノ角ゴ Pro W6"/>
              </a:rPr>
              <a:t>とほぼ同一</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負けている機能もある</a:t>
            </a:r>
            <a:r>
              <a:rPr b="0" lang="en-US" sz="3200" spc="-1" strike="noStrike">
                <a:solidFill>
                  <a:srgbClr val="000000"/>
                </a:solidFill>
                <a:latin typeface="ヒラギノ角ゴ Pro W6"/>
              </a:rPr>
              <a:t>w</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画像の形状モデルへのマッピング</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ヒラギノ角ゴ Pro W6"/>
              </a:rPr>
              <a:t>形状モデル上へのマーキング（研究者向け版のみ）</a:t>
            </a:r>
            <a:endParaRPr b="0" lang="en-US" sz="27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SMBT</a:t>
            </a:r>
            <a:endParaRPr b="0" lang="en-US" sz="3800" spc="-1" strike="noStrike">
              <a:solidFill>
                <a:srgbClr val="000000"/>
              </a:solidFill>
              <a:latin typeface="ヒラギノ角ゴ Pro W6"/>
            </a:endParaRPr>
          </a:p>
        </p:txBody>
      </p:sp>
      <p:sp>
        <p:nvSpPr>
          <p:cNvPr id="62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一般向け</a:t>
            </a:r>
            <a:endParaRPr b="0" lang="en-US" sz="3200" spc="-1" strike="noStrike">
              <a:solidFill>
                <a:srgbClr val="000000"/>
              </a:solidFill>
              <a:latin typeface="ヒラギノ角ゴ Pro W6"/>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http://near.jhuapl.edu/software/sbmt/</a:t>
            </a:r>
            <a:endParaRPr b="0" lang="en-US" sz="32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3D-GIS</a:t>
            </a:r>
            <a:r>
              <a:rPr b="0" lang="ja-JP" sz="3800" spc="-1" strike="noStrike">
                <a:solidFill>
                  <a:srgbClr val="000000"/>
                </a:solidFill>
                <a:latin typeface="ヒラギノ角ゴ Pro W6"/>
              </a:rPr>
              <a:t>で独自マッピングデータを表示する</a:t>
            </a:r>
            <a:endParaRPr b="0" lang="en-US" sz="3800" spc="-1" strike="noStrike">
              <a:solidFill>
                <a:srgbClr val="000000"/>
              </a:solidFill>
              <a:latin typeface="ヒラギノ角ゴ Pro W6"/>
            </a:endParaRPr>
          </a:p>
        </p:txBody>
      </p:sp>
      <p:sp>
        <p:nvSpPr>
          <p:cNvPr id="62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Eclipse</a:t>
            </a:r>
            <a:r>
              <a:rPr b="0" lang="ja-JP" sz="3200" spc="-1" strike="noStrike">
                <a:solidFill>
                  <a:srgbClr val="000000"/>
                </a:solidFill>
                <a:latin typeface="ヒラギノ角ゴ Pro W6"/>
              </a:rPr>
              <a:t>上で</a:t>
            </a:r>
            <a:r>
              <a:rPr b="0" lang="en-US" sz="3200" spc="-1" strike="noStrike">
                <a:solidFill>
                  <a:srgbClr val="000000"/>
                </a:solidFill>
                <a:latin typeface="ヒラギノ角ゴ Pro W6"/>
              </a:rPr>
              <a:t>Applet</a:t>
            </a:r>
            <a:r>
              <a:rPr b="0" lang="ja-JP" sz="3200" spc="-1" strike="noStrike">
                <a:solidFill>
                  <a:srgbClr val="000000"/>
                </a:solidFill>
                <a:latin typeface="ヒラギノ角ゴ Pro W6"/>
              </a:rPr>
              <a:t>版のソースコードを動作させることができる</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 W6"/>
              </a:rPr>
              <a:t>データの入れ替え，ソースコードの改変が可能</a:t>
            </a:r>
            <a:endParaRPr b="0" lang="en-US" sz="32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Mapping asteroids</a:t>
            </a:r>
            <a:endParaRPr b="0" lang="en-US" sz="3800" spc="-1" strike="noStrike">
              <a:solidFill>
                <a:srgbClr val="000000"/>
              </a:solidFill>
              <a:latin typeface="ヒラギノ角ゴ Pro W6"/>
            </a:endParaRPr>
          </a:p>
        </p:txBody>
      </p:sp>
      <p:sp>
        <p:nvSpPr>
          <p:cNvPr id="59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How to represent map information of small bodies</a:t>
            </a: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ヒラギノ角ゴ Pro W6"/>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pherical Bodies</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Map projection from spherical body to plane</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major GISs</a:t>
            </a:r>
            <a:endParaRPr b="0" lang="en-US" sz="23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ヒラギノ角ゴ Pro W6"/>
              </a:rPr>
              <a:t>平面の地図表現</a:t>
            </a:r>
            <a:endParaRPr b="0" lang="en-US" sz="3800" spc="-1" strike="noStrike">
              <a:solidFill>
                <a:srgbClr val="000000"/>
              </a:solidFill>
              <a:latin typeface="ヒラギノ角ゴ Pro W6"/>
            </a:endParaRPr>
          </a:p>
        </p:txBody>
      </p:sp>
      <p:pic>
        <p:nvPicPr>
          <p:cNvPr id="599" name="図 3" descr="スクリーンショット（2012-08-28 20.56.49）.png"/>
          <p:cNvPicPr/>
          <p:nvPr/>
        </p:nvPicPr>
        <p:blipFill>
          <a:blip r:embed="rId1"/>
          <a:stretch/>
        </p:blipFill>
        <p:spPr>
          <a:xfrm>
            <a:off x="1590840" y="1573200"/>
            <a:ext cx="5684760" cy="482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図 1" descr=""/>
          <p:cNvPicPr/>
          <p:nvPr/>
        </p:nvPicPr>
        <p:blipFill>
          <a:blip r:embed="rId1"/>
          <a:srcRect l="0" t="18517" r="0" b="0"/>
          <a:stretch/>
        </p:blipFill>
        <p:spPr>
          <a:xfrm>
            <a:off x="12600" y="-592200"/>
            <a:ext cx="9144000" cy="7450200"/>
          </a:xfrm>
          <a:prstGeom prst="rect">
            <a:avLst/>
          </a:prstGeom>
          <a:ln w="0">
            <a:noFill/>
          </a:ln>
        </p:spPr>
      </p:pic>
      <p:sp>
        <p:nvSpPr>
          <p:cNvPr id="601" name="テキスト ボックス 2"/>
          <p:cNvSpPr/>
          <p:nvPr/>
        </p:nvSpPr>
        <p:spPr>
          <a:xfrm>
            <a:off x="6582600" y="5773680"/>
            <a:ext cx="2158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Itokaw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図 1" descr=""/>
          <p:cNvPicPr/>
          <p:nvPr/>
        </p:nvPicPr>
        <p:blipFill>
          <a:blip r:embed="rId1"/>
          <a:srcRect l="0" t="18517" r="0" b="0"/>
          <a:stretch/>
        </p:blipFill>
        <p:spPr>
          <a:xfrm>
            <a:off x="12600" y="-592200"/>
            <a:ext cx="9144000" cy="7450200"/>
          </a:xfrm>
          <a:prstGeom prst="rect">
            <a:avLst/>
          </a:prstGeom>
          <a:ln w="0">
            <a:noFill/>
          </a:ln>
        </p:spPr>
      </p:pic>
      <p:sp>
        <p:nvSpPr>
          <p:cNvPr id="603" name="テキスト ボックス 2"/>
          <p:cNvSpPr/>
          <p:nvPr/>
        </p:nvSpPr>
        <p:spPr>
          <a:xfrm>
            <a:off x="6582600" y="5773680"/>
            <a:ext cx="2158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Itokawa</a:t>
            </a:r>
            <a:endParaRPr b="0" lang="en-US" sz="4800" spc="-1" strike="noStrike">
              <a:solidFill>
                <a:srgbClr val="000000"/>
              </a:solidFill>
              <a:latin typeface="Arial"/>
            </a:endParaRPr>
          </a:p>
        </p:txBody>
      </p:sp>
      <p:cxnSp>
        <p:nvCxnSpPr>
          <p:cNvPr id="604" name="直線矢印コネクタ 4"/>
          <p:cNvCxnSpPr/>
          <p:nvPr/>
        </p:nvCxnSpPr>
        <p:spPr>
          <a:xfrm flipH="1" flipV="1">
            <a:off x="1023120" y="1910880"/>
            <a:ext cx="3513960" cy="1085040"/>
          </a:xfrm>
          <a:prstGeom prst="straightConnector1">
            <a:avLst/>
          </a:prstGeom>
          <a:ln w="76320">
            <a:solidFill>
              <a:srgbClr val="4f81bd"/>
            </a:solidFill>
            <a:miter/>
            <a:tailEnd len="med" type="arrow" w="med"/>
          </a:ln>
        </p:spPr>
      </p:cxnSp>
      <p:sp>
        <p:nvSpPr>
          <p:cNvPr id="605" name="四角形吹き出し 6"/>
          <p:cNvSpPr/>
          <p:nvPr/>
        </p:nvSpPr>
        <p:spPr>
          <a:xfrm>
            <a:off x="523800" y="185760"/>
            <a:ext cx="4037040" cy="1108080"/>
          </a:xfrm>
          <a:prstGeom prst="wedgeRectCallout">
            <a:avLst>
              <a:gd name="adj1" fmla="val -9597"/>
              <a:gd name="adj2" fmla="val 135685"/>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Multiple intersections at the surfac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on-unique representation of locations!</a:t>
            </a:r>
            <a:endParaRPr b="0" lang="en-US" sz="1800" spc="-1" strike="noStrike">
              <a:solidFill>
                <a:srgbClr val="000000"/>
              </a:solidFill>
              <a:latin typeface="Arial"/>
            </a:endParaRPr>
          </a:p>
        </p:txBody>
      </p:sp>
      <p:sp>
        <p:nvSpPr>
          <p:cNvPr id="606" name="テキスト ボックス 7"/>
          <p:cNvSpPr/>
          <p:nvPr/>
        </p:nvSpPr>
        <p:spPr>
          <a:xfrm>
            <a:off x="3566880" y="3303720"/>
            <a:ext cx="3050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 the origin</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 the coordinate</a:t>
            </a:r>
            <a:endParaRPr b="0" lang="en-US" sz="3200" spc="-1" strike="noStrike">
              <a:solidFill>
                <a:srgbClr val="000000"/>
              </a:solidFill>
              <a:latin typeface="Arial"/>
            </a:endParaRPr>
          </a:p>
        </p:txBody>
      </p:sp>
      <p:sp>
        <p:nvSpPr>
          <p:cNvPr id="607" name="ドーナツ 8"/>
          <p:cNvSpPr/>
          <p:nvPr/>
        </p:nvSpPr>
        <p:spPr>
          <a:xfrm>
            <a:off x="4451400" y="2860560"/>
            <a:ext cx="320760" cy="320760"/>
          </a:xfrm>
          <a:custGeom>
            <a:avLst/>
            <a:gdLst/>
            <a:ahLst/>
            <a:rect l="l" t="t" r="r" b="b"/>
            <a:pathLst>
              <a:path w="320675" h="320675">
                <a:moveTo>
                  <a:pt x="0" y="160338"/>
                </a:moveTo>
                <a:cubicBezTo>
                  <a:pt x="0" y="71786"/>
                  <a:pt x="71786" y="0"/>
                  <a:pt x="160338" y="0"/>
                </a:cubicBezTo>
                <a:cubicBezTo>
                  <a:pt x="248890" y="0"/>
                  <a:pt x="320676" y="71786"/>
                  <a:pt x="320676" y="160338"/>
                </a:cubicBezTo>
                <a:cubicBezTo>
                  <a:pt x="320676" y="248890"/>
                  <a:pt x="248890" y="320676"/>
                  <a:pt x="160338" y="320676"/>
                </a:cubicBezTo>
                <a:cubicBezTo>
                  <a:pt x="71786" y="320676"/>
                  <a:pt x="0" y="248890"/>
                  <a:pt x="0" y="160338"/>
                </a:cubicBezTo>
                <a:close/>
                <a:moveTo>
                  <a:pt x="80169" y="160338"/>
                </a:moveTo>
                <a:cubicBezTo>
                  <a:pt x="80169" y="204614"/>
                  <a:pt x="116062" y="240507"/>
                  <a:pt x="160338" y="240507"/>
                </a:cubicBezTo>
                <a:cubicBezTo>
                  <a:pt x="204614" y="240507"/>
                  <a:pt x="240507" y="204614"/>
                  <a:pt x="240507" y="160338"/>
                </a:cubicBezTo>
                <a:cubicBezTo>
                  <a:pt x="240507" y="116062"/>
                  <a:pt x="204614" y="80169"/>
                  <a:pt x="160338" y="80169"/>
                </a:cubicBezTo>
                <a:cubicBezTo>
                  <a:pt x="116062" y="80169"/>
                  <a:pt x="80169" y="116062"/>
                  <a:pt x="80169" y="160338"/>
                </a:cubicBezTo>
                <a:close/>
              </a:path>
            </a:pathLst>
          </a:custGeom>
          <a:solidFill>
            <a:srgbClr val="b7dee8"/>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608" name="直線矢印コネクタ 9"/>
          <p:cNvCxnSpPr/>
          <p:nvPr/>
        </p:nvCxnSpPr>
        <p:spPr>
          <a:xfrm flipH="1" flipV="1">
            <a:off x="2169360" y="2255760"/>
            <a:ext cx="2282040" cy="705240"/>
          </a:xfrm>
          <a:prstGeom prst="straightConnector1">
            <a:avLst/>
          </a:prstGeom>
          <a:ln w="76320">
            <a:solidFill>
              <a:srgbClr val="b7dee8"/>
            </a:solidFill>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図 1" descr="スクリーンショット 2012-06-28 14.43.44.png"/>
          <p:cNvPicPr/>
          <p:nvPr/>
        </p:nvPicPr>
        <p:blipFill>
          <a:blip r:embed="rId1"/>
          <a:stretch/>
        </p:blipFill>
        <p:spPr>
          <a:xfrm>
            <a:off x="1603440" y="2905200"/>
            <a:ext cx="5832360" cy="4429080"/>
          </a:xfrm>
          <a:prstGeom prst="rect">
            <a:avLst/>
          </a:prstGeom>
          <a:ln w="0">
            <a:noFill/>
          </a:ln>
        </p:spPr>
      </p:pic>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Mapping asteroids</a:t>
            </a:r>
            <a:endParaRPr b="0" lang="en-US" sz="3800" spc="-1" strike="noStrike">
              <a:solidFill>
                <a:srgbClr val="000000"/>
              </a:solidFill>
              <a:latin typeface="ヒラギノ角ゴ Pro W6"/>
            </a:endParaRPr>
          </a:p>
        </p:txBody>
      </p:sp>
      <p:sp>
        <p:nvSpPr>
          <p:cNvPr id="61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Spherical Bodies</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Perspective view of a virtual globe</a:t>
            </a:r>
            <a:endParaRPr b="0" lang="en-US" sz="2700" spc="-1" strike="noStrike">
              <a:solidFill>
                <a:srgbClr val="000000"/>
              </a:solidFill>
              <a:latin typeface="ヒラギノ角ゴ Pro W6"/>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Google Earth, NASA WorldWind</a:t>
            </a:r>
            <a:endParaRPr b="0" lang="en-US" sz="23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Mapping asteroids</a:t>
            </a:r>
            <a:endParaRPr b="0" lang="en-US" sz="3800" spc="-1" strike="noStrike">
              <a:solidFill>
                <a:srgbClr val="000000"/>
              </a:solidFill>
              <a:latin typeface="ヒラギノ角ゴ Pro W6"/>
            </a:endParaRPr>
          </a:p>
        </p:txBody>
      </p:sp>
      <p:pic>
        <p:nvPicPr>
          <p:cNvPr id="613" name="図 4" descr="スクリーンショット 2012-06-28 14.57.28.png"/>
          <p:cNvPicPr/>
          <p:nvPr/>
        </p:nvPicPr>
        <p:blipFill>
          <a:blip r:embed="rId1"/>
          <a:stretch/>
        </p:blipFill>
        <p:spPr>
          <a:xfrm>
            <a:off x="4000680" y="3616200"/>
            <a:ext cx="5143320" cy="3241800"/>
          </a:xfrm>
          <a:prstGeom prst="rect">
            <a:avLst/>
          </a:prstGeom>
          <a:ln w="0">
            <a:noFill/>
          </a:ln>
        </p:spPr>
      </p:pic>
      <p:sp>
        <p:nvSpPr>
          <p:cNvPr id="614" name="正方形/長方形 5"/>
          <p:cNvSpPr/>
          <p:nvPr/>
        </p:nvSpPr>
        <p:spPr>
          <a:xfrm>
            <a:off x="2973600" y="596592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BT</a:t>
            </a:r>
            <a:endParaRPr b="0" lang="en-US" sz="2400" spc="-1" strike="noStrike">
              <a:solidFill>
                <a:srgbClr val="000000"/>
              </a:solidFill>
              <a:latin typeface="Arial"/>
            </a:endParaRPr>
          </a:p>
        </p:txBody>
      </p:sp>
      <p:sp>
        <p:nvSpPr>
          <p:cNvPr id="61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 W6"/>
              </a:rPr>
              <a:t>Irregular shaped small bodies</a:t>
            </a:r>
            <a:endParaRPr b="0" lang="en-US" sz="32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Perspective view of a virtual asteroid</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3D-GIS</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Small Body Mapping Tool (SMBT) by APL/JHU</a:t>
            </a:r>
            <a:endParaRPr b="0" lang="en-US" sz="2700" spc="-1" strike="noStrike">
              <a:solidFill>
                <a:srgbClr val="000000"/>
              </a:solidFill>
              <a:latin typeface="ヒラギノ角ゴ Pro W6"/>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ヒラギノ角ゴ Pro W6"/>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3D-GIS</a:t>
            </a:r>
            <a:endParaRPr b="0" lang="en-US" sz="3800" spc="-1" strike="noStrike">
              <a:solidFill>
                <a:srgbClr val="000000"/>
              </a:solidFill>
              <a:latin typeface="ヒラギノ角ゴ Pro W6"/>
            </a:endParaRPr>
          </a:p>
        </p:txBody>
      </p:sp>
      <p:sp>
        <p:nvSpPr>
          <p:cNvPr id="617" name=""/>
          <p:cNvSpPr txBox="1"/>
          <p:nvPr/>
        </p:nvSpPr>
        <p:spPr>
          <a:xfrm>
            <a:off x="456840" y="1600200"/>
            <a:ext cx="3435480" cy="4525920"/>
          </a:xfrm>
          <a:prstGeom prst="rect">
            <a:avLst/>
          </a:prstGeom>
          <a:noFill/>
          <a:ln w="0">
            <a:noFill/>
          </a:ln>
        </p:spPr>
        <p:txBody>
          <a:bodyPr anchor="t">
            <a:normAutofit/>
          </a:bodyPr>
          <a:p>
            <a:pPr marL="343080" indent="-34308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ヒラギノ角ゴ Pro W6"/>
              </a:rPr>
              <a:t>Java applet with JOGL</a:t>
            </a:r>
            <a:endParaRPr b="0" lang="en-US" sz="22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ヒラギノ角ゴ Pro W6"/>
              </a:rPr>
              <a:t>Java Binding for the OpenGL API</a:t>
            </a:r>
            <a:endParaRPr b="0" lang="en-US" sz="1900" spc="-1" strike="noStrike">
              <a:solidFill>
                <a:srgbClr val="000000"/>
              </a:solidFill>
              <a:latin typeface="ヒラギノ角ゴ Pro W6"/>
            </a:endParaRPr>
          </a:p>
          <a:p>
            <a:pPr marL="343080" indent="-34308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ヒラギノ角ゴ Pro W6"/>
              </a:rPr>
              <a:t>Shape model</a:t>
            </a:r>
            <a:endParaRPr b="0" lang="en-US" sz="22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ヒラギノ角ゴ Pro W6"/>
              </a:rPr>
              <a:t>By Bob Gaskell</a:t>
            </a:r>
            <a:endParaRPr b="0" lang="en-US" sz="19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ヒラギノ角ゴ Pro W6"/>
              </a:rPr>
              <a:t>49152 polygons</a:t>
            </a:r>
            <a:endParaRPr b="0" lang="en-US" sz="1900" spc="-1" strike="noStrike">
              <a:solidFill>
                <a:srgbClr val="000000"/>
              </a:solidFill>
              <a:latin typeface="ヒラギノ角ゴ Pro W6"/>
            </a:endParaRPr>
          </a:p>
          <a:p>
            <a:pPr marL="343080" indent="-34308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ヒラギノ角ゴ Pro W6"/>
              </a:rPr>
              <a:t>Layers</a:t>
            </a:r>
            <a:endParaRPr b="0" lang="en-US" sz="22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ヒラギノ角ゴ Pro W6"/>
              </a:rPr>
              <a:t>Gravity potential</a:t>
            </a:r>
            <a:endParaRPr b="0" lang="en-US" sz="19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ヒラギノ角ゴ Pro W6"/>
              </a:rPr>
              <a:t>Slope</a:t>
            </a:r>
            <a:endParaRPr b="0" lang="en-US" sz="19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ヒラギノ角ゴ Pro W6"/>
              </a:rPr>
              <a:t>Visible brightness</a:t>
            </a:r>
            <a:endParaRPr b="0" lang="en-US" sz="19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ヒラギノ角ゴ Pro W6"/>
              </a:rPr>
              <a:t>NIR reflectance</a:t>
            </a:r>
            <a:endParaRPr b="0" lang="en-US" sz="19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ヒラギノ角ゴ Pro W6"/>
              </a:rPr>
              <a:t>Space weathering index</a:t>
            </a:r>
            <a:endParaRPr b="0" lang="en-US" sz="1900" spc="-1" strike="noStrike">
              <a:solidFill>
                <a:srgbClr val="000000"/>
              </a:solidFill>
              <a:latin typeface="ヒラギノ角ゴ Pro W6"/>
            </a:endParaRPr>
          </a:p>
          <a:p>
            <a:pPr lvl="1" marL="743040" indent="-28584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ヒラギノ角ゴ Pro W6"/>
            </a:endParaRPr>
          </a:p>
        </p:txBody>
      </p:sp>
      <p:pic>
        <p:nvPicPr>
          <p:cNvPr id="618" name="図 4" descr="97317498-EEF3-491A-91D6-3E28BBEF3BD4.pdf"/>
          <p:cNvPicPr/>
          <p:nvPr/>
        </p:nvPicPr>
        <p:blipFill>
          <a:blip r:embed="rId1"/>
          <a:stretch/>
        </p:blipFill>
        <p:spPr>
          <a:xfrm>
            <a:off x="4183200" y="1008000"/>
            <a:ext cx="4597200" cy="4503960"/>
          </a:xfrm>
          <a:prstGeom prst="rect">
            <a:avLst/>
          </a:prstGeom>
          <a:ln w="0">
            <a:noFill/>
          </a:ln>
        </p:spPr>
      </p:pic>
      <p:sp>
        <p:nvSpPr>
          <p:cNvPr id="619" name="テキスト ボックス 2"/>
          <p:cNvSpPr/>
          <p:nvPr/>
        </p:nvSpPr>
        <p:spPr>
          <a:xfrm>
            <a:off x="273600" y="5578560"/>
            <a:ext cx="873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irius.u-aizu.ac.jp/k-sys/3DGIS2_Javaapplet/3DGIS2.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セットアップ情報</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irius.u-aizu.ac.jp/k-sys/3DGIS2_Javaapplet/JOGL.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ヒラギノ角ゴ Pro W6"/>
              </a:rPr>
              <a:t>Functions</a:t>
            </a:r>
            <a:endParaRPr b="0" lang="en-US" sz="3800" spc="-1" strike="noStrike">
              <a:solidFill>
                <a:srgbClr val="000000"/>
              </a:solidFill>
              <a:latin typeface="ヒラギノ角ゴ Pro W6"/>
            </a:endParaRPr>
          </a:p>
        </p:txBody>
      </p:sp>
      <p:sp>
        <p:nvSpPr>
          <p:cNvPr id="621" name=""/>
          <p:cNvSpPr txBox="1"/>
          <p:nvPr/>
        </p:nvSpPr>
        <p:spPr>
          <a:xfrm>
            <a:off x="456840" y="1600200"/>
            <a:ext cx="3435480" cy="4525920"/>
          </a:xfrm>
          <a:prstGeom prst="rect">
            <a:avLst/>
          </a:prstGeom>
          <a:noFill/>
          <a:ln w="0">
            <a:noFill/>
          </a:ln>
        </p:spPr>
        <p:txBody>
          <a:bodyPr anchor="t">
            <a:normAutofit/>
          </a:bodyPr>
          <a:p>
            <a:pPr marL="343080" indent="-34308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Manipulate 3D model</a:t>
            </a:r>
            <a:endParaRPr b="0" lang="en-US" sz="27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rotate</a:t>
            </a:r>
            <a:endParaRPr b="0" lang="en-US" sz="23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zoom</a:t>
            </a:r>
            <a:endParaRPr b="0" lang="en-US" sz="2300" spc="-1" strike="noStrike">
              <a:solidFill>
                <a:srgbClr val="000000"/>
              </a:solidFill>
              <a:latin typeface="ヒラギノ角ゴ Pro W6"/>
            </a:endParaRPr>
          </a:p>
          <a:p>
            <a:pPr marL="343080" indent="-34308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Mapping layers</a:t>
            </a:r>
            <a:endParaRPr b="0" lang="en-US" sz="2700" spc="-1" strike="noStrike">
              <a:solidFill>
                <a:srgbClr val="000000"/>
              </a:solidFill>
              <a:latin typeface="ヒラギノ角ゴ Pro W6"/>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ヒラギノ角ゴ Pro W6"/>
              </a:rPr>
              <a:t>control color LUT</a:t>
            </a:r>
            <a:endParaRPr b="0" lang="en-US" sz="2300" spc="-1" strike="noStrike">
              <a:solidFill>
                <a:srgbClr val="000000"/>
              </a:solidFill>
              <a:latin typeface="ヒラギノ角ゴ Pro W6"/>
            </a:endParaRPr>
          </a:p>
          <a:p>
            <a:pPr marL="343080" indent="-34308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Lat/Lon grid</a:t>
            </a:r>
            <a:endParaRPr b="0" lang="en-US" sz="2700" spc="-1" strike="noStrike">
              <a:solidFill>
                <a:srgbClr val="000000"/>
              </a:solidFill>
              <a:latin typeface="ヒラギノ角ゴ Pro W6"/>
            </a:endParaRPr>
          </a:p>
          <a:p>
            <a:pPr marL="343080" indent="-34308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 W6"/>
              </a:rPr>
              <a:t>Local information of all layers</a:t>
            </a:r>
            <a:endParaRPr b="0" lang="en-US" sz="2700" spc="-1" strike="noStrike">
              <a:solidFill>
                <a:srgbClr val="000000"/>
              </a:solidFill>
              <a:latin typeface="ヒラギノ角ゴ Pro W6"/>
            </a:endParaRPr>
          </a:p>
        </p:txBody>
      </p:sp>
      <p:pic>
        <p:nvPicPr>
          <p:cNvPr id="622" name="図 4" descr="97317498-EEF3-491A-91D6-3E28BBEF3BD4.pdf"/>
          <p:cNvPicPr/>
          <p:nvPr/>
        </p:nvPicPr>
        <p:blipFill>
          <a:blip r:embed="rId1"/>
          <a:stretch/>
        </p:blipFill>
        <p:spPr>
          <a:xfrm>
            <a:off x="4292640" y="1600200"/>
            <a:ext cx="4597200" cy="4503600"/>
          </a:xfrm>
          <a:prstGeom prst="rect">
            <a:avLst/>
          </a:prstGeom>
          <a:ln w="0">
            <a:noFill/>
          </a:ln>
        </p:spPr>
      </p:pic>
      <p:sp>
        <p:nvSpPr>
          <p:cNvPr id="623" name="テキスト ボックス 2"/>
          <p:cNvSpPr/>
          <p:nvPr/>
        </p:nvSpPr>
        <p:spPr>
          <a:xfrm>
            <a:off x="211680" y="6219720"/>
            <a:ext cx="873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irius.u-aizu.ac.jp/k-sys/3DGIS2_Javaapplet/3DGIS2.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06:18:46Z</dcterms:created>
  <dc:creator>Hirata Naru</dc:creator>
  <dc:description/>
  <dc:language>en-US</dc:language>
  <cp:lastModifiedBy>Naru Hirata</cp:lastModifiedBy>
  <cp:lastPrinted>2009-03-10T22:24:26Z</cp:lastPrinted>
  <dcterms:modified xsi:type="dcterms:W3CDTF">2012-08-30T00:19:54Z</dcterms:modified>
  <cp:revision>384</cp:revision>
  <dc:subject/>
  <dc:title>リモートセンシングデータの解析</dc:title>
</cp:coreProperties>
</file>